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B95-9B33-4A05-999D-08F55D5D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2B3-6C29-4874-825D-2BAB5D28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D63-265E-4D38-B891-C68E272E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9AB-3EF6-4D01-95C6-030BC5A0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F10-3745-4DBA-A0DB-47AAA4FF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175-3ED0-4132-99C8-6F561D8F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1A7-5751-4991-9081-47A2A7A2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CC5-6A1C-4E11-8C6B-BA87F44C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0ED-A9AF-4EC7-9127-C054B9B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EE8-9659-4F61-8932-03E3003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159-346C-47CE-8140-738BB071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CC0-57AC-4137-A8D2-77C9507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64B7-DFA4-4258-A041-C8814430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ft%20side%20view%20MDW%20bird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H-1H PRE-FLIGH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USE WITH PART 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by the UH-1 Systems Section with help from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N2%20fuel%20control%20etc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143000" y="3962520"/>
            <a:ext cx="914400" cy="609480"/>
          </a:xfrm>
          <a:prstGeom prst="leftArrow">
            <a:avLst>
              <a:gd name="adj1" fmla="val 50000"/>
              <a:gd name="adj2" fmla="val 3750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3040" y="41148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81280" y="7621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0200" y="1484280"/>
            <a:ext cx="29520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7560" y="2057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7560" y="27432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2800" y="39225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74920" y="23986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7520" y="14842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15280" y="15408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24480" y="1295280"/>
            <a:ext cx="2133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Start Fuel Solen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Ignition Unit (Exciter Bo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N2 Gear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Torquemeter Boost Pu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Linear actu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Overspeed Gover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N2 Tach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914400"/>
            <a:ext cx="4572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289548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2438280" y="3276360"/>
            <a:ext cx="15264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1600200"/>
            <a:ext cx="30492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Oil%20pressure%20sw%20etc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914400" y="68580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579840" y="1103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71800" y="9907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88920" y="2246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62360" y="28195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77120" y="4572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p FWD Engine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159876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Engine Oil Pressure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Torque Pressure 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Fuel Pressure Differential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Engine Oil Pressure 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352320" y="2971800"/>
            <a:ext cx="129564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2514600"/>
            <a:ext cx="7632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1219320"/>
            <a:ext cx="22860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504960" y="1371600"/>
            <a:ext cx="15228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010280" y="1371600"/>
            <a:ext cx="1981440" cy="43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Exhaust Section V-band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Diffuser Section P3 Air T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Bleed air Manifold (Piggy Back Cha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Bleed Air Manif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Bleed band As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Anti-icing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Starter 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Interstage Bleed Air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Bipod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VIGV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N1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Compresso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P4 Tap for Start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Flow Div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Starter Generator Vent H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49960" y="228600"/>
            <a:ext cx="198144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/Side Engine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R%20S%20turbine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52280" y="152280"/>
            <a:ext cx="6782040" cy="5086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2" name=""/>
          <p:cNvSpPr/>
          <p:nvPr/>
        </p:nvSpPr>
        <p:spPr>
          <a:xfrm>
            <a:off x="1081080" y="2514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12800" y="21286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685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440" y="417600"/>
            <a:ext cx="29520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57600" y="1371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3000" y="798480"/>
            <a:ext cx="29520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81480" y="3657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72000" y="31240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14800" y="46483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81680" y="213372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18280" y="316080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0600" y="3429000"/>
            <a:ext cx="685800" cy="6094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38480" y="1803960"/>
            <a:ext cx="106704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09480" y="2666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22860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657240" y="685800"/>
            <a:ext cx="3049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038120" y="10666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1523880"/>
            <a:ext cx="8380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33526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46480" y="64620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752480" y="685800"/>
            <a:ext cx="45720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14240" y="4724280"/>
            <a:ext cx="60948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380880"/>
            <a:ext cx="457200" cy="609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" y="3657600"/>
            <a:ext cx="533520" cy="380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81080" y="304812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914040" y="335268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52880" y="464832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419720" y="4647960"/>
            <a:ext cx="68580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486400" y="2286000"/>
            <a:ext cx="45720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7213680" y="316080"/>
            <a:ext cx="198108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/Side Engine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1403280"/>
            <a:ext cx="198108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mbusto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P3 Air T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Cow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Interstage Bleed Air 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Compresso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VIGV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Air Inlet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Self Purging Particle Sepa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Dry Sump Oil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N1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Bipod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Starter/Standby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No 2 Bearing Pressur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No. 2 Scavenge Oil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320" y="304920"/>
            <a:ext cx="7162560" cy="5412240"/>
            <a:chOff x="76320" y="304920"/>
            <a:chExt cx="7162560" cy="5412240"/>
          </a:xfrm>
        </p:grpSpPr>
        <p:pic>
          <p:nvPicPr>
            <p:cNvPr id="385" name="P5230005" descr=""/>
            <p:cNvPicPr/>
            <p:nvPr/>
          </p:nvPicPr>
          <p:blipFill>
            <a:blip r:embed="rId1"/>
            <a:stretch/>
          </p:blipFill>
          <p:spPr>
            <a:xfrm>
              <a:off x="76320" y="304920"/>
              <a:ext cx="71625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004400" y="6094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37920" y="68580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47400" y="9907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80920" y="10666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66720" y="114300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33400" y="17524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33400" y="114300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62000" y="54100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66000" y="533412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27920" y="541008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94400" y="541008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61240" y="541008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8240" y="5334120"/>
              <a:ext cx="40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8600" y="762120"/>
              <a:ext cx="76320" cy="60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43000" y="914400"/>
              <a:ext cx="228600" cy="53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057040" y="1295280"/>
              <a:ext cx="228600" cy="1219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362320" y="1371600"/>
              <a:ext cx="457200" cy="76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57200" y="3580920"/>
              <a:ext cx="76320" cy="1752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914040" y="2971800"/>
              <a:ext cx="609480" cy="2362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1752120" y="3809520"/>
              <a:ext cx="381240" cy="1600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2286000" y="3428640"/>
              <a:ext cx="380880" cy="198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2666880" y="3657600"/>
              <a:ext cx="914400" cy="1752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800600" y="3809520"/>
              <a:ext cx="914400" cy="1600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123720" y="1523880"/>
              <a:ext cx="304920" cy="99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191120" y="2057400"/>
              <a:ext cx="380880" cy="1371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24280" y="1371600"/>
              <a:ext cx="53352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6680" y="457200"/>
              <a:ext cx="295200" cy="276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629400" y="990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 Engine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54960" y="2131920"/>
            <a:ext cx="19810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EGT Thermocou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Ign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No. 3 and 4 bearing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Start fuel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EGT%20thermocouple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438280" y="1600200"/>
            <a:ext cx="457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057400" y="1828800"/>
            <a:ext cx="38088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1080" y="4114800"/>
            <a:ext cx="457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371240" y="4267080"/>
            <a:ext cx="609480" cy="38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327672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3657240" y="3276360"/>
            <a:ext cx="76212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144792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838080" y="175248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Elec%20compt%20II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6324840" cy="4743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603840" y="30636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ompartment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1593720"/>
            <a:ext cx="198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Voltage Regul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Field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Overvoltage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Bus Control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Reverse Current R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Circuit Break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6320" y="5698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33760" y="16765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67080" y="2971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38480" y="33526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72000" y="48769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8960" y="25909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590560" y="838080"/>
            <a:ext cx="533160" cy="838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4080" y="838080"/>
            <a:ext cx="381240" cy="838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419360" y="1981080"/>
            <a:ext cx="75960" cy="38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8280" y="312408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2514240" y="3505320"/>
            <a:ext cx="60948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2835360" y="4840200"/>
            <a:ext cx="8380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133360" y="4992840"/>
            <a:ext cx="1539720" cy="188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2895480"/>
            <a:ext cx="60984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895480"/>
            <a:ext cx="609840" cy="60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2895480"/>
            <a:ext cx="60984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2895480"/>
            <a:ext cx="609840" cy="1447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2743200"/>
            <a:ext cx="838080" cy="7621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3505320"/>
            <a:ext cx="762120" cy="761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fuel%20manifold%20and%20shutoff%20valv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6603840" y="3063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129528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Fuel Shut Off Va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Manual Shut Off L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Fuel Manif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21320" y="17445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62360" y="2971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52880" y="3657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114800" y="1905120"/>
            <a:ext cx="13716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2971440" y="2362320"/>
            <a:ext cx="1676520" cy="761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3200400" y="2971800"/>
            <a:ext cx="83808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533520"/>
            <a:ext cx="1371600" cy="3352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Hydraulic%20compartmen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61" name="Hyd%20pump%20rotor%20tach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309680" y="3049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89360" y="4572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90960" y="685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79840" y="14842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04760" y="2057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4800" y="3657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81080" y="38098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19160" y="38862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00200" y="38088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2514600" y="533160"/>
            <a:ext cx="38088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723920" y="990720"/>
            <a:ext cx="30492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124080" y="1676520"/>
            <a:ext cx="45720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95280" y="2209680"/>
            <a:ext cx="5335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200040" y="3962520"/>
            <a:ext cx="152280" cy="1218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4114800"/>
            <a:ext cx="7596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4191120"/>
            <a:ext cx="30456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3000" y="36939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67080" y="3962520"/>
            <a:ext cx="76320" cy="1447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03840" y="30636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 System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53080" y="1295280"/>
            <a:ext cx="2438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Hyd Pressure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3-way Solenoid Va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Cyclic (Servo) Power 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Hyd Pressure Relief Va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Hy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Hyd Pu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Mi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ODDS Debris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Rotor Tach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457200" y="380880"/>
          <a:ext cx="52657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52657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6222960" y="306360"/>
            <a:ext cx="2311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 Cooler Fan Compartment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72200" y="1828800"/>
            <a:ext cx="2438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Oil Cooler 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Structural Support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Tail Rotor Ser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Heater Mixing Va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Oil Cooler radi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12800" y="1103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33360" y="20574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6520" y="3160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08240" y="46083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98600" y="36939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1371600"/>
            <a:ext cx="45720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1143000" y="2362320"/>
            <a:ext cx="380880" cy="1828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2880" y="3429000"/>
            <a:ext cx="3049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14600" y="487692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505320" y="3962520"/>
            <a:ext cx="2286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813240" y="701640"/>
            <a:ext cx="114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/R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2960" y="1647720"/>
            <a:ext cx="26067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.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11680" y="1522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0960" y="1641600"/>
            <a:ext cx="1909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bilizer Bar As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ch Chang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llow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mper Push-Pull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g B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/R Bl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de Retention Bo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de Gr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m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issors L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v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ch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4480" y="45576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45720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81280" y="635040"/>
            <a:ext cx="18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/R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29000" y="1676520"/>
            <a:ext cx="1981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1682640"/>
            <a:ext cx="15238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de Gr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ch Chang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vot Bea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/R Drive S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ch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/R Gear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 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il Filler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M Anten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/R Bl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ance We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609480"/>
            <a:ext cx="2819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er M/R Area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28800" y="1676520"/>
            <a:ext cx="3881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. 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50680" y="1687680"/>
            <a:ext cx="24134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Tube (Push-Pull Tub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i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v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roved Particle Se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clic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ashplate Balance 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clic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ssion Oil Filler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eeve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nchronized Elev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ine Exha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p 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il Boom / 42 degree G/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 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357120"/>
            <a:ext cx="6172200" cy="6207120"/>
            <a:chOff x="152280" y="357120"/>
            <a:chExt cx="6172200" cy="6207120"/>
          </a:xfrm>
        </p:grpSpPr>
        <p:pic>
          <p:nvPicPr>
            <p:cNvPr id="45" name="P5220001" descr=""/>
            <p:cNvPicPr/>
            <p:nvPr/>
          </p:nvPicPr>
          <p:blipFill>
            <a:blip r:embed="rId1">
              <a:lum bright="26000"/>
            </a:blip>
            <a:srcRect l="0" t="6449" r="0" b="14103"/>
            <a:stretch/>
          </p:blipFill>
          <p:spPr>
            <a:xfrm>
              <a:off x="152280" y="357120"/>
              <a:ext cx="6172200" cy="620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6" name=""/>
            <p:cNvSpPr/>
            <p:nvPr/>
          </p:nvSpPr>
          <p:spPr>
            <a:xfrm>
              <a:off x="394920" y="43164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2840" y="5335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76400" y="21337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19200" y="28195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647640"/>
              <a:ext cx="220680" cy="419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33720" y="838080"/>
              <a:ext cx="533160" cy="1257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5486040" y="1011240"/>
              <a:ext cx="228600" cy="1122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4952520" y="2095200"/>
              <a:ext cx="304920" cy="72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09320" y="449568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47600" y="83808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6200" y="1155600"/>
              <a:ext cx="304920" cy="36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28640" y="7621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9520" y="1082520"/>
              <a:ext cx="75960" cy="941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33200" y="38088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8120" y="685800"/>
              <a:ext cx="75960" cy="1371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90400" y="533520"/>
              <a:ext cx="31500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76360" y="866880"/>
              <a:ext cx="75960" cy="1228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09360" y="274320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428640" y="2438280"/>
              <a:ext cx="1066680" cy="3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28120" y="320040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124080" y="3181320"/>
              <a:ext cx="990720" cy="17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33040" y="358128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3429000" y="3733560"/>
              <a:ext cx="99072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04440" y="396252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352320" y="4114800"/>
              <a:ext cx="838440" cy="29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80760" y="441972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80920" y="4572000"/>
              <a:ext cx="685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89840" y="480060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4952880"/>
              <a:ext cx="39348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56720" y="518148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809880" y="5349960"/>
              <a:ext cx="533520" cy="218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42120" y="1949400"/>
              <a:ext cx="40464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2168640"/>
              <a:ext cx="304920" cy="50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447920" y="3962160"/>
              <a:ext cx="0" cy="533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401880" y="2286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R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13560" y="152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841320"/>
            <a:ext cx="2043000" cy="4995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Stabilizer Bar As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Control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Pitch Chang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Pillow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Damper Push-Pull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Drag B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M/R Bl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Blade Retention Bo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Blade Gr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Yo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Dam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M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Scissors L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Driv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.Pitch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505320"/>
            <a:ext cx="609840" cy="533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12408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5680" y="1457280"/>
            <a:ext cx="269244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457200"/>
            <a:ext cx="1981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er M/R Area Parts ID 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14018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Particle Separator (I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1731960"/>
            <a:ext cx="205740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vator Control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ot. Swash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Swash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ssors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Control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XMS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ve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Over Bellcr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Quill / Sprag Clu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/D/S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Drive S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ve Control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3920" y="380880"/>
            <a:ext cx="19810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ssion Parts ID  (Par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1376280"/>
            <a:ext cx="266724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68320" y="1447920"/>
            <a:ext cx="221832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ve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-over Bellcr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Press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r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Pressure Trans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Temperat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SN Oil Pressure Relief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Quill/Sprag Clu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03840" y="380880"/>
            <a:ext cx="1981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ssion Pa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 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1370160"/>
            <a:ext cx="220968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934320" y="1447920"/>
            <a:ext cx="17524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or T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Pump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Pet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 Plug (ODDS)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upper D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/R Output coup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ris Monitor (ODDS)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Oil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11680" y="1522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04812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7712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0968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2280" y="1703520"/>
            <a:ext cx="27432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1703520"/>
            <a:ext cx="236196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e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and Coil As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od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pod (Support Tube)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r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op Compens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ver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speed Gover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que Meter Boost 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7160" y="3668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76720" y="1736640"/>
            <a:ext cx="266688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1736640"/>
            <a:ext cx="23619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Pressure Differential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Tach Canno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Fuel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ustio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ttle Control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1 Gear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Oil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Gear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el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59720" y="47772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1676520"/>
            <a:ext cx="20574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36480" y="1612800"/>
            <a:ext cx="18435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Fuel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ition Unit (Exciter Bo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Gea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quemeter Boost 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speed Gover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11680" y="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89548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72200" y="45720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534960"/>
            <a:ext cx="1981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FWD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2280" y="1557360"/>
            <a:ext cx="25146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2800" y="1488960"/>
            <a:ext cx="2224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il Press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que Pressure Trans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Pressure Differential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il Pressure Trans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66880" y="1420920"/>
            <a:ext cx="342900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00400" y="1389240"/>
            <a:ext cx="281952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haust Section V-band cl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r Section P3 Air T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ed air Manifold (Piggy Back Cha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ed Air Manif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ed band As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icing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r 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age Bleed Air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d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GV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1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o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Tap for Start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Div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r Generator Vent H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05320" y="47772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31608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/Side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1371600"/>
            <a:ext cx="289548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77120" y="1371600"/>
            <a:ext cx="2286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usto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3 Air T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w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age Bleed Air 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o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GV Act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Inlet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 Purging Particle Sepa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ump Oil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1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d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r/Standby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2 Bearing Pressur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2 Scavenge Oil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11680" y="7632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81952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477120" y="533520"/>
            <a:ext cx="0" cy="563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376200"/>
            <a:ext cx="1981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 Engine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1255680"/>
            <a:ext cx="231156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1257480"/>
            <a:ext cx="2133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T Thermocou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3 and 4 bearing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fuel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306360"/>
            <a:ext cx="1981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al Compartment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30520" y="1219320"/>
            <a:ext cx="1981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62360" y="1249200"/>
            <a:ext cx="162540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 Reg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oltage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 Control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Current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03840" y="304920"/>
            <a:ext cx="1981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el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29400" y="1212840"/>
            <a:ext cx="1981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60520" y="1219320"/>
            <a:ext cx="16041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Shut Off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 Shut Off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Manif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4920" y="313848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 System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4920" y="3898800"/>
            <a:ext cx="243828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20560" y="3935520"/>
            <a:ext cx="207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Press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way Solenoid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(Servo) Power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Pressure Relief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 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S Debris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or Tach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3174840"/>
            <a:ext cx="2463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il Cooler Fan Compartment Parts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78240" y="4038480"/>
            <a:ext cx="2438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_____________________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85320" y="4102200"/>
            <a:ext cx="16527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Cooler F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Support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 Rotor Ser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er Mixing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Cooler radi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8600" y="297180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1680" y="7632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58720" y="62848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0840" y="343080"/>
            <a:ext cx="6935760" cy="6057720"/>
            <a:chOff x="150840" y="343080"/>
            <a:chExt cx="6935760" cy="6057720"/>
          </a:xfrm>
        </p:grpSpPr>
        <p:pic>
          <p:nvPicPr>
            <p:cNvPr id="86" name="P5220003" descr=""/>
            <p:cNvPicPr/>
            <p:nvPr/>
          </p:nvPicPr>
          <p:blipFill>
            <a:blip r:embed="rId1">
              <a:lum bright="18000"/>
            </a:blip>
            <a:srcRect l="3750" t="0" r="7500" b="0"/>
            <a:stretch/>
          </p:blipFill>
          <p:spPr>
            <a:xfrm>
              <a:off x="150840" y="343080"/>
              <a:ext cx="6935760" cy="60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H="1">
              <a:off x="3994200" y="1028520"/>
              <a:ext cx="665280" cy="456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560" y="12571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59480" y="1562040"/>
              <a:ext cx="225360" cy="1333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7000" y="87624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70560" y="1181160"/>
              <a:ext cx="515880" cy="456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322600" y="2476440"/>
              <a:ext cx="95724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66880" y="384804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700440" y="3085920"/>
              <a:ext cx="147960" cy="761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080" y="2552760"/>
              <a:ext cx="40464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58040" y="2552760"/>
              <a:ext cx="40464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0440" y="2019240"/>
              <a:ext cx="40464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36960" y="3085920"/>
              <a:ext cx="2206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3120" y="255276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151000" y="3009960"/>
              <a:ext cx="74520" cy="83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1440" y="2895480"/>
              <a:ext cx="0" cy="297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66840" y="2171520"/>
              <a:ext cx="295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70280" y="7621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994200" y="1028520"/>
              <a:ext cx="665280" cy="456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0560" y="1181160"/>
              <a:ext cx="515880" cy="456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4240" y="232416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322600" y="2476440"/>
              <a:ext cx="95724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17640" y="449568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584960" y="3390840"/>
              <a:ext cx="71280" cy="110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60440" y="39625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6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122720" y="2324160"/>
              <a:ext cx="389160" cy="1638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66880" y="384804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700440" y="3085920"/>
              <a:ext cx="147960" cy="761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5160" y="281952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8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41480" y="2286000"/>
              <a:ext cx="31500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9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91600" y="2641680"/>
              <a:ext cx="404640" cy="307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0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36960" y="3085920"/>
              <a:ext cx="2206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83120" y="255276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151000" y="3009960"/>
              <a:ext cx="74520" cy="837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074600" y="2819520"/>
              <a:ext cx="222120" cy="304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66840" y="2171520"/>
              <a:ext cx="295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36720" y="609480"/>
              <a:ext cx="371160" cy="276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4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03560" y="762120"/>
              <a:ext cx="68112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13440" y="380880"/>
              <a:ext cx="371160" cy="276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589200" y="533520"/>
              <a:ext cx="609480" cy="7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230960" y="228600"/>
            <a:ext cx="17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/R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838080"/>
            <a:ext cx="1752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Blade Gr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Static St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Cross 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Yo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Pitch Chang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Pivot Bea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T/R Drive S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Pitch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T/R Gear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Vertical 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Oil Filler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FM Anten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T/R Bl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Balance We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4308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791320" y="76320"/>
            <a:ext cx="281916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M/R Area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522000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357440" y="9144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742840" y="914040"/>
            <a:ext cx="1600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81120" y="13716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742840" y="1523880"/>
            <a:ext cx="152388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28840" y="18288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733920" y="190476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62000" y="20574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743200" y="2209680"/>
            <a:ext cx="1905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9720" y="243828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038480" y="2666880"/>
            <a:ext cx="4572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14640" y="281952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495320" y="297180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38680" y="3429000"/>
            <a:ext cx="333000" cy="337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42840" y="3657600"/>
            <a:ext cx="198108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38320" y="403848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276360" y="4191120"/>
            <a:ext cx="144756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2000" y="449568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038480" y="4648320"/>
            <a:ext cx="60984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90040" y="609588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971800" y="5562720"/>
            <a:ext cx="45720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18440" y="617220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1600200" y="5409720"/>
            <a:ext cx="457200" cy="838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08960" y="624852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295280" y="5791320"/>
            <a:ext cx="15264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6840" y="617220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85800" y="6019560"/>
            <a:ext cx="38088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1920" y="441972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0880" y="18284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920" y="251460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143000"/>
            <a:ext cx="99036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8240" y="106668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760" y="76212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06668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609480"/>
            <a:ext cx="3808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22860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32640" y="45720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62800" y="1482840"/>
            <a:ext cx="34617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M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Control Tube (Push-Pull Tub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Sci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Driv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Improved Particle Se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Non-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Cyclic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Swashplate Balance 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Cyclic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Transmission Oil Filler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Sleeve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Synchronized Elev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Engine Exha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.Loop 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Tail Boom / 42 degree G/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.Vertical 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9480" y="3428640"/>
            <a:ext cx="182880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32640" y="-2556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5400" y="22860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533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20400" y="6094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914400"/>
            <a:ext cx="22860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4960" y="68580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99072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3560" y="6094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914400"/>
            <a:ext cx="9907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8480" y="60948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91440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505320" y="151920"/>
            <a:ext cx="2438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7240" y="548640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81080" y="3733920"/>
            <a:ext cx="24156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3000" y="556272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50040" y="518148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50040" y="426708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4190760"/>
            <a:ext cx="121932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52280" y="4267080"/>
            <a:ext cx="11430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80880" y="4343400"/>
            <a:ext cx="6098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50040" y="274320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80880" y="251460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914400"/>
            <a:ext cx="20574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Improved Particle Separator (I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Elevator Control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Non rot.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Rotating Swash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Scissors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Mast 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M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Control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Cyclic Control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Balance Sp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XMSN Oil 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Transmission (XM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Collective L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Step Over Bellcr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Input Quill / Sprag Clu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M/D/S Cl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.Main Drive Sh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Collective Control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5220006" descr=""/>
          <p:cNvPicPr/>
          <p:nvPr/>
        </p:nvPicPr>
        <p:blipFill>
          <a:blip r:embed="rId1"/>
          <a:srcRect l="12502" t="0" r="2498" b="0"/>
          <a:stretch/>
        </p:blipFill>
        <p:spPr>
          <a:xfrm>
            <a:off x="0" y="228600"/>
            <a:ext cx="6931080" cy="6114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010280" y="3049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er M/R Area Parts ID (PART 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320" y="51444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3040" y="8190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5800" y="91440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219320"/>
            <a:ext cx="660240" cy="1962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33000" y="91440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1219320"/>
            <a:ext cx="1041120" cy="1428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66520" y="914400"/>
            <a:ext cx="31500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31840" y="1200240"/>
            <a:ext cx="99072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71440" y="4572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762120"/>
            <a:ext cx="1422360" cy="97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04600" y="53352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65200" y="51444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65600" y="196200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838080"/>
            <a:ext cx="1879560" cy="285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56080" y="437760"/>
            <a:ext cx="243828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03840" y="2266920"/>
            <a:ext cx="763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43440" y="3581280"/>
            <a:ext cx="31500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842080" y="3867120"/>
            <a:ext cx="914400" cy="1066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4000" y="554364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308200" y="4781160"/>
            <a:ext cx="76212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93640" y="577224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93800" y="5771880"/>
            <a:ext cx="6858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50640" y="600084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089240" y="501012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64840" y="6000840"/>
            <a:ext cx="40464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251160" y="4019400"/>
            <a:ext cx="76320" cy="198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40600" y="577224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031840" y="4019040"/>
            <a:ext cx="241560" cy="1752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6720" y="584820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320" y="533412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20" y="455292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09480" y="4476240"/>
            <a:ext cx="1117800" cy="1467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57200" y="4552920"/>
            <a:ext cx="888840" cy="781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31640" y="4628880"/>
            <a:ext cx="60984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320" y="3029040"/>
            <a:ext cx="404640" cy="30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1640" y="3123720"/>
            <a:ext cx="787680" cy="57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4560" y="63244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moved%20Xmsn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6019920" cy="4572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84200" y="8794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36600" y="16416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16600" y="20239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84760" y="2362320"/>
            <a:ext cx="29520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99040" y="29541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48120" y="34624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97200" y="397044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6640" y="40957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0800" y="1008000"/>
            <a:ext cx="501480" cy="338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573200" y="1600200"/>
            <a:ext cx="669960" cy="169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830760" y="2192400"/>
            <a:ext cx="1171440" cy="59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001840" y="2532240"/>
            <a:ext cx="668520" cy="16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165200" y="2869920"/>
            <a:ext cx="919080" cy="253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79840" y="3632040"/>
            <a:ext cx="1254240" cy="84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6480" y="3462480"/>
            <a:ext cx="417600" cy="423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3161880" y="3970440"/>
            <a:ext cx="1420920" cy="169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0800" y="4224240"/>
            <a:ext cx="836640" cy="85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7440" y="3716280"/>
            <a:ext cx="501480" cy="507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755640"/>
            <a:ext cx="198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ssion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1717560"/>
            <a:ext cx="228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ive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ep-over Bellcr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XMSN Oil Press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Oil Filler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XMSN Oil Pressure Trans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XMSN Oil Temperatur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XMSN Oil Pressure Relief Va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Input Quill/Sprag Clu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477120" y="687240"/>
            <a:ext cx="198108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Part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A%20d%20q%20II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19920" cy="4724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805360" y="22860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33560" y="525780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21120" y="49276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67080" y="35812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10080" y="350532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13000" y="107784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326556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" y="26668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54440" y="3178080"/>
            <a:ext cx="295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5334120" y="2362320"/>
            <a:ext cx="465120" cy="33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419360" y="2895480"/>
            <a:ext cx="166680" cy="612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733560" y="2437920"/>
            <a:ext cx="90360" cy="739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048120" y="3352320"/>
            <a:ext cx="333360" cy="174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656160" y="5102280"/>
            <a:ext cx="2505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819160" y="4876560"/>
            <a:ext cx="158760" cy="417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30080" y="3090600"/>
            <a:ext cx="836640" cy="174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9480" y="2133360"/>
            <a:ext cx="22860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9520" y="1339920"/>
            <a:ext cx="407880" cy="641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02320" y="2050920"/>
            <a:ext cx="198144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Rotor T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Accessory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Hyd Pump 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Sight G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Drain Petc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Mag Plug (ODDS)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ip Det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Scupper D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T/R Output cou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ebris Monitor (ODDS)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ernal Oil Fil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1371600"/>
            <a:ext cx="2133720" cy="16002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L%20S%20Eng%20general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9684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257800" y="60948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276372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198108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337356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1011240"/>
            <a:ext cx="3808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449568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434340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1087560"/>
            <a:ext cx="38124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1544760"/>
            <a:ext cx="45720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2514600"/>
            <a:ext cx="38124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799160" y="762120"/>
            <a:ext cx="4586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257440" y="223056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257440" y="352584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914400" y="444024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33720" y="1676520"/>
            <a:ext cx="37116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523880" y="1523520"/>
            <a:ext cx="38124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743200" y="266688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62920" y="15408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10280" y="1447920"/>
            <a:ext cx="19814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Exciter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Fuel Control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Lead and Coil As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Tripod 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Monopod (Support Tube) 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Starter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Linear Actu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Droop Compens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Change Over Solen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Overspeed Gover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Torque Meter Boost Pu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162920" y="154080"/>
            <a:ext cx="198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/Side Engine Parts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PART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L%20S%20Eng%20general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6320" y="9540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733920" y="2209680"/>
            <a:ext cx="38232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04920"/>
            <a:ext cx="38268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609480"/>
            <a:ext cx="38232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228600"/>
            <a:ext cx="3826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152280"/>
            <a:ext cx="3808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1066680"/>
            <a:ext cx="38232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228600"/>
            <a:ext cx="3826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4038480"/>
            <a:ext cx="3826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2895480"/>
            <a:ext cx="38268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752480" y="3657600"/>
            <a:ext cx="907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276720" y="2209680"/>
            <a:ext cx="45072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371600" y="914040"/>
            <a:ext cx="47772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304920"/>
            <a:ext cx="360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0"/>
            <a:ext cx="609480" cy="7621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304920"/>
            <a:ext cx="36036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114440" y="533520"/>
            <a:ext cx="15228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5029200"/>
            <a:ext cx="473040" cy="27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295280"/>
            <a:ext cx="213372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Fuel Pressure Differential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N2 Tach Canno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Start Fuel Solen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Diffuser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Combustio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Throttle Control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N1 Gear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Internal Oil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N2 Gear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Main Fuel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8720" y="628488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13:53:18Z</dcterms:created>
  <dc:creator>SSG Daniel Rawlings and DAC David Cole</dc:creator>
  <dc:description/>
  <dc:language>en-US</dc:language>
  <cp:lastModifiedBy>Aaron Croft</cp:lastModifiedBy>
  <dcterms:modified xsi:type="dcterms:W3CDTF">2004-11-14T21:39:26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70741456</vt:r8>
  </property>
  <property fmtid="{D5CDD505-2E9C-101B-9397-08002B2CF9AE}" pid="3" name="_AuthorEmail">
    <vt:lpwstr>shaud.alexander@verizon.net</vt:lpwstr>
  </property>
  <property fmtid="{D5CDD505-2E9C-101B-9397-08002B2CF9AE}" pid="4" name="_AuthorEmailDisplayName">
    <vt:lpwstr>Shaud K. Alexander</vt:lpwstr>
  </property>
  <property fmtid="{D5CDD505-2E9C-101B-9397-08002B2CF9AE}" pid="5" name="_EmailSubject">
    <vt:lpwstr>UH-1 Systems photos</vt:lpwstr>
  </property>
</Properties>
</file>