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0D6B-2EC8-4DBB-BCDF-9ED3B3DAA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BE65-3FD4-4661-B38E-409CEA721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C6A3-B69E-4353-9D0C-59E3D2E45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D76B-2877-400B-A081-DC6029244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0D9ED-23AD-4C07-A4E7-043BA511A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C8B28-A45D-4790-9787-A71CBA0C0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C4108-830A-4C8C-B020-3C917D4D5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86154-A0A0-4B8E-BF2F-3FD2B8A6E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7A03E-2390-495F-BEAD-323CA1391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4F6DC-A37F-41E7-9E00-16E8E4E4E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6AD30-BFF9-4A3D-9662-0666AE7E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5411-1ABA-4E38-B285-B32672287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F8FE8-22AB-42E7-920D-F5DDBC6F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A37C0-89C8-4F68-A990-BA7ED2B4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DB938-A3F6-45ED-A8B8-ED594466A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4A847-4159-4724-9CFA-12371A6C5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69369-64E0-4833-9C3E-9A94C1104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9187-B5A2-4197-89C8-BCC927DF3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2102-A29D-4F72-9272-C5E1F3733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417F-786C-469A-9485-B6CF82C76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E37E-15F2-4EC6-9A12-6482E2DCC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F527-F55C-44A1-BD33-F666392F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E96F-3347-4BCA-95DC-744CA43B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F4A0-33A7-434F-9491-DCA8A8FD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1E87-9456-48FD-A86A-2B469F86D382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2FD65-2AE5-4F80-9E49-6554B6713F0E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Shortcut%20to%20Res%20Far.lnk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YDRAULIC SYSTE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23 F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592BD-15F0-441B-9AF4-DADCCD71BA5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TROLS &amp; INDICATO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YDRAULIC CONTROL SWITCH Pictur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UTION LIGH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AEC3-C239-40BD-976E-A7F310FD88F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ALFUNC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YDRAULIC FAILUR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TROL STIFFNES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LIGHT CONTROL SERVO HARDOV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ARN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A963-C1C8-4C1D-873A-EC3F76F75A7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BJECTIV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YDRAULIC SYSTEM (GENERAL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MPONENTS AND OPER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TROLS AND INDICATO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LFUNCTI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QUESTIONS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D254-2E1C-4910-8D7E-6AFB2F71C9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DENTIFY COMPONENTS, PURPOSE, AND OPERATING CHARACTERISTIC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SCRIBE NORMAL OPERATI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TATE CAUSE, INDICATIONS, AND CORRECTIVE ACTIONS FOR MALFUNCTI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A60F-2D32-4BD5-AF27-21B480FE1D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APTERS TWO AND NINE OF –1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APTER TWO OF UH-1H PILOT’S DESK REFERE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383F-9AD7-443B-B93C-F7D986B966C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205E-B093-483F-8BC4-36A25C8202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YDRAULIC SYSTEM (GENERAL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MPONENTS AND OPER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TROLS AND INDICATO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LFUNCTI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UMMA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7DDE-823C-45C1-A315-CA6D074368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YDRAULIC SYSTE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URPO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NE SYSTEM FOR ALL FLIGHT CONTRO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ASIC AC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A86E-4FD7-4F6C-86FA-DE694F3877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cc66"/>
                </a:solidFill>
                <a:latin typeface="Times New Roman"/>
              </a:rPr>
              <a:t>COMPONENTS &amp; OPERATION</a:t>
            </a:r>
            <a:endParaRPr b="0" lang="en-US" sz="43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SERVOIR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LOCATION Pictu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APACI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YPES OF FLUI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IGHT GAUGE </a:t>
            </a:r>
            <a:r>
              <a:rPr b="0" lang="en-US" sz="24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Pictu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UMP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LOCATION Pictu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AT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ELIVER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A269-D779-4E7F-8BC3-40AA33F3C2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cc66"/>
                </a:solidFill>
                <a:latin typeface="Times New Roman"/>
              </a:rPr>
              <a:t>COMPONENTS &amp; OPERATION</a:t>
            </a:r>
            <a:endParaRPr b="0" lang="en-US" sz="43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TEGRATED VALVE AND FILTER ASSEMBL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OCATION Pictu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TAI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LIEF VALV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ESSURE SWITCH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OLENOID VALV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ILTER Pictu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F0E4-4E0E-43EE-AA56-398343076D1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cc66"/>
                </a:solidFill>
                <a:latin typeface="Times New Roman"/>
              </a:rPr>
              <a:t>COMPONENTS &amp; OPERATION</a:t>
            </a:r>
            <a:endParaRPr b="0" lang="en-US" sz="43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RVOS Pictur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MPONEN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WER CYLIND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RVO CONTROL VALV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RREVERSIBLE VALV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LOPPY LINK Pictu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LANCE SPR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982F-EE81-465A-BB75-3F92A858CF9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9T15:00:35Z</dcterms:created>
  <dc:creator>23 FTS</dc:creator>
  <dc:description/>
  <dc:language>en-US</dc:language>
  <cp:lastModifiedBy>23 FTS</cp:lastModifiedBy>
  <dcterms:modified xsi:type="dcterms:W3CDTF">2002-05-09T15:19:28Z</dcterms:modified>
  <cp:revision>8</cp:revision>
  <dc:subject/>
  <dc:title>HYDRAULIC SYSTEM</dc:title>
</cp:coreProperties>
</file>