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D06-B0B3-45D7-BEEC-4027DA83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473-3CBC-46E2-9E2D-6E1B5A7F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C05C-50FC-4EA5-BE00-49F60247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C3D-BE73-4C1E-B342-7B463B71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0761-3593-4BF7-921E-BA47B018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5BB-8AE1-481A-A12C-7DCA4224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027-B4B5-428A-ABA8-669E5AD1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D58-D0AF-4D5C-BFD2-8D4E8F48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5CC9-F27D-41AF-8979-CD6D8944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BBC-1699-4C0F-ABBC-7DB1AE53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0234-95E6-4B7C-97C7-C8786E46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619C-3863-44CE-9D8E-87501C83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EF45-BAC9-4C22-8896-5E58834E9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ARTS AND PIEC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UH1%20Flare%20in%20Trees" descr="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eft%20side%20engine%20no%20label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eft%20side%20engine" descr=""/>
          <p:cNvPicPr/>
          <p:nvPr/>
        </p:nvPicPr>
        <p:blipFill>
          <a:blip r:embed="rId1"/>
          <a:stretch/>
        </p:blipFill>
        <p:spPr>
          <a:xfrm>
            <a:off x="0" y="7308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verspeed%20gov" descr=""/>
          <p:cNvPicPr/>
          <p:nvPr/>
        </p:nvPicPr>
        <p:blipFill>
          <a:blip r:embed="rId1"/>
          <a:stretch/>
        </p:blipFill>
        <p:spPr>
          <a:xfrm>
            <a:off x="533520" y="208080"/>
            <a:ext cx="822960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engine%20driven%20fuel%20pump" descr=""/>
          <p:cNvPicPr/>
          <p:nvPr/>
        </p:nvPicPr>
        <p:blipFill>
          <a:blip r:embed="rId1"/>
          <a:stretch/>
        </p:blipFill>
        <p:spPr>
          <a:xfrm>
            <a:off x="11160" y="0"/>
            <a:ext cx="912024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engine%20fuel%20lines" descr=""/>
          <p:cNvPicPr/>
          <p:nvPr/>
        </p:nvPicPr>
        <p:blipFill>
          <a:blip r:embed="rId1"/>
          <a:stretch/>
        </p:blipFill>
        <p:spPr>
          <a:xfrm>
            <a:off x="838080" y="23760"/>
            <a:ext cx="914400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right%20side%20engine%20no%20labels" descr=""/>
          <p:cNvPicPr/>
          <p:nvPr/>
        </p:nvPicPr>
        <p:blipFill>
          <a:blip r:embed="rId1"/>
          <a:stretch/>
        </p:blipFill>
        <p:spPr>
          <a:xfrm>
            <a:off x="0" y="25560"/>
            <a:ext cx="8915400" cy="70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ight%20side%20engine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nlet%20guide%20vanes" descr=""/>
          <p:cNvPicPr/>
          <p:nvPr/>
        </p:nvPicPr>
        <p:blipFill>
          <a:blip r:embed="rId1"/>
          <a:stretch/>
        </p:blipFill>
        <p:spPr>
          <a:xfrm>
            <a:off x="11160" y="23760"/>
            <a:ext cx="8827920" cy="70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19:43:57Z</dcterms:created>
  <dc:creator>Lauren Dare</dc:creator>
  <dc:description/>
  <dc:language>en-US</dc:language>
  <cp:lastModifiedBy>Lauren Dare</cp:lastModifiedBy>
  <dcterms:modified xsi:type="dcterms:W3CDTF">1999-07-28T16:57:33Z</dcterms:modified>
  <cp:revision>3</cp:revision>
  <dc:subject/>
  <dc:title>No Slide Title</dc:title>
</cp:coreProperties>
</file>