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99EB-4B2F-4466-98E7-2F7825108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IGMATION: Irregularity of the shape of the cornea or lens resulting in the inability to focus on different meridians simultaneously.(poles and wir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  DISTANCE ESTIMATION AND DEPTH PER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estimation and depth perception cues are easily recognized when crewmembers use central vision under good illumination.  As the light level decreases, the ability to judge distances accurately is degraded and visual illusions become more common.  A knowledge of distance estimation and depth perception mechanisms and cues will assist crew members in judging distances at night.  These cues may be monocular or binocular.  Monocular cues are more important for crewmembers than binocular c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u="sng">
                <a:solidFill>
                  <a:srgbClr val="000000"/>
                </a:solidFill>
                <a:uFillTx/>
                <a:latin typeface="Times New Roman"/>
              </a:rPr>
              <a:t>Monocular Cues</a:t>
            </a:r>
            <a:r>
              <a:rPr b="0" lang="en-US" sz="1200" spc="-1" strike="noStrike">
                <a:solidFill>
                  <a:srgbClr val="000000"/>
                </a:solidFill>
                <a:latin typeface="Times New Roman"/>
              </a:rPr>
              <a:t>.  The monocular cues that aid in distance estimation and depth perception include motion parallax, geometric perspective, retinal image size, and aeri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u="sng">
                <a:solidFill>
                  <a:srgbClr val="000000"/>
                </a:solidFill>
                <a:uFillTx/>
                <a:latin typeface="Times New Roman"/>
              </a:rPr>
              <a:t>Geometric perspective</a:t>
            </a:r>
            <a:r>
              <a:rPr b="0" lang="en-US" sz="1200" spc="-1" strike="noStrike">
                <a:solidFill>
                  <a:srgbClr val="000000"/>
                </a:solidFill>
                <a:latin typeface="Times New Roman"/>
              </a:rPr>
              <a:t>.  An object may appear to have a different shape when viewed at varying distances and from different angles.  Geometric perspective cues include linear perspective, apparent foreshortening, and vertical position in the field.  They are illustrated in Figure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u="sng">
                <a:solidFill>
                  <a:srgbClr val="000000"/>
                </a:solidFill>
                <a:uFillTx/>
                <a:latin typeface="Times New Roman"/>
              </a:rPr>
              <a:t>Linear perspective</a:t>
            </a:r>
            <a:r>
              <a:rPr b="0" lang="en-US" sz="1200" spc="-1" strike="noStrike">
                <a:solidFill>
                  <a:srgbClr val="000000"/>
                </a:solidFill>
                <a:latin typeface="Times New Roman"/>
              </a:rPr>
              <a:t>.  Parallel lines, such as runway lights, tend to converge as distance from the observer increases.  This is illustrated in part A of Figur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u="sng">
                <a:solidFill>
                  <a:srgbClr val="000000"/>
                </a:solidFill>
                <a:uFillTx/>
                <a:latin typeface="Times New Roman"/>
              </a:rPr>
              <a:t>Apparent foreshortening</a:t>
            </a:r>
            <a:r>
              <a:rPr b="0" lang="en-US" sz="1200" spc="-1" strike="noStrike">
                <a:solidFill>
                  <a:srgbClr val="000000"/>
                </a:solidFill>
                <a:latin typeface="Times New Roman"/>
              </a:rPr>
              <a:t>.  The true shape of an object </a:t>
            </a:r>
            <a:r>
              <a:rPr b="1" lang="en-US" sz="1200" spc="-1" strike="noStrike">
                <a:solidFill>
                  <a:srgbClr val="000000"/>
                </a:solidFill>
                <a:latin typeface="Times New Roman"/>
              </a:rPr>
              <a:t>or a</a:t>
            </a:r>
            <a:r>
              <a:rPr b="0" lang="en-US" sz="1200" spc="-1" strike="noStrike">
                <a:solidFill>
                  <a:srgbClr val="000000"/>
                </a:solidFill>
                <a:latin typeface="Times New Roman"/>
              </a:rPr>
              <a:t> terrain feature appears elliptical when viewed from a distance.  </a:t>
            </a:r>
            <a:r>
              <a:rPr b="1" lang="en-US" sz="1200" spc="-1" strike="noStrike">
                <a:solidFill>
                  <a:srgbClr val="000000"/>
                </a:solidFill>
                <a:latin typeface="Times New Roman"/>
              </a:rPr>
              <a:t>As </a:t>
            </a:r>
            <a:r>
              <a:rPr b="0" lang="en-US" sz="1200" spc="-1" strike="noStrike">
                <a:solidFill>
                  <a:srgbClr val="000000"/>
                </a:solidFill>
                <a:latin typeface="Times New Roman"/>
              </a:rPr>
              <a:t>the </a:t>
            </a:r>
            <a:r>
              <a:rPr b="1" lang="en-US" sz="1200" spc="-1" strike="noStrike">
                <a:solidFill>
                  <a:srgbClr val="000000"/>
                </a:solidFill>
                <a:latin typeface="Times New Roman"/>
              </a:rPr>
              <a:t>dis</a:t>
            </a:r>
            <a:r>
              <a:rPr b="0" lang="en-US" sz="1200" spc="-1" strike="noStrike">
                <a:solidFill>
                  <a:srgbClr val="000000"/>
                </a:solidFill>
                <a:latin typeface="Times New Roman"/>
              </a:rPr>
              <a:t>tance to the object or the terrain feature decreases, the apparent </a:t>
            </a:r>
            <a:r>
              <a:rPr b="1" lang="en-US" sz="1200" spc="-1" strike="noStrike">
                <a:solidFill>
                  <a:srgbClr val="000000"/>
                </a:solidFill>
                <a:latin typeface="Times New Roman"/>
              </a:rPr>
              <a:t>perspec</a:t>
            </a:r>
            <a:r>
              <a:rPr b="0" lang="en-US" sz="1200" spc="-1" strike="noStrike">
                <a:solidFill>
                  <a:srgbClr val="000000"/>
                </a:solidFill>
                <a:latin typeface="Times New Roman"/>
              </a:rPr>
              <a:t>tive changes to its true shape or form.  Part B of Figure 1-9 illustrates </a:t>
            </a:r>
            <a:r>
              <a:rPr b="1" lang="en-US" sz="1200" spc="-1" strike="noStrike">
                <a:solidFill>
                  <a:srgbClr val="000000"/>
                </a:solidFill>
                <a:latin typeface="Times New Roman"/>
              </a:rPr>
              <a:t>how</a:t>
            </a:r>
            <a:r>
              <a:rPr b="0" lang="en-US" sz="1200" spc="-1" strike="noStrike">
                <a:solidFill>
                  <a:srgbClr val="000000"/>
                </a:solidFill>
                <a:latin typeface="Times New Roman"/>
              </a:rPr>
              <a:t> the shape of a body of water changes when viewed at different distances at the same al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Times New Roman"/>
              </a:rPr>
              <a:t>	</a:t>
            </a:r>
            <a:r>
              <a:rPr b="0" lang="en-US" sz="1200" spc="-1" strike="noStrike" u="sng">
                <a:solidFill>
                  <a:srgbClr val="000000"/>
                </a:solidFill>
                <a:uFillTx/>
                <a:latin typeface="Times New Roman"/>
              </a:rPr>
              <a:t>Vertical position in the field</a:t>
            </a:r>
            <a:r>
              <a:rPr b="0" lang="en-US" sz="1200" spc="-1" strike="noStrike">
                <a:solidFill>
                  <a:srgbClr val="000000"/>
                </a:solidFill>
                <a:latin typeface="Times New Roman"/>
              </a:rPr>
              <a:t>.  Objects or terrain features farther away from the observer appear higher on the horizon than those closer to the observer.  The higher vehicle in part C of Figure 1-9 appears to be closer to the top and, thus, at the greater distance from the observer.  At night, crew members can mistake lights on elevated structures or light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graphicFrame>
        <p:nvGraphicFramePr>
          <p:cNvPr id="107" name=""/>
          <p:cNvGraphicFramePr/>
          <p:nvPr/>
        </p:nvGraphicFramePr>
        <p:xfrm>
          <a:off x="380880" y="4495680"/>
          <a:ext cx="6210360" cy="3733920"/>
        </p:xfrm>
        <a:graphic>
          <a:graphicData uri="http://schemas.openxmlformats.org/presentationml/2006/ole">
            <p:oleObj progId="Word.Document.12" r:id="rId1" spid="">
              <p:embed/>
              <p:pic>
                <p:nvPicPr>
                  <p:cNvPr id="108" name="" descr=""/>
                  <p:cNvPicPr/>
                  <p:nvPr/>
                </p:nvPicPr>
                <p:blipFill>
                  <a:blip r:embed="rId2"/>
                  <a:stretch/>
                </p:blipFill>
                <p:spPr>
                  <a:xfrm>
                    <a:off x="380880" y="4495680"/>
                    <a:ext cx="6210360" cy="3733920"/>
                  </a:xfrm>
                  <a:prstGeom prst="rect">
                    <a:avLst/>
                  </a:prstGeom>
                  <a:ln w="0">
                    <a:noFill/>
                  </a:ln>
                </p:spPr>
              </p:pic>
            </p:oleObj>
          </a:graphicData>
        </a:graphic>
      </p:graphicFrame>
      <p:sp>
        <p:nvSpPr>
          <p:cNvPr id="109" name=""/>
          <p:cNvSpPr/>
          <p:nvPr/>
        </p:nvSpPr>
        <p:spPr>
          <a:xfrm>
            <a:off x="1523880" y="4267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errestrial associations</a:t>
            </a:r>
            <a:r>
              <a:rPr b="0" lang="en-US" sz="1200" spc="-1" strike="noStrike">
                <a:solidFill>
                  <a:srgbClr val="000000"/>
                </a:solidFill>
                <a:latin typeface="Times New Roman"/>
              </a:rPr>
              <a:t>.  Comparing an object, such as an airfield, with an object of known size, such as a helicopter, helps to determine the object's size and apparent distance from the observer objects ordinarily associated together are judged to be at about the same dista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a:t>
            </a:r>
            <a:r>
              <a:rPr b="0" sz="1200" spc="-1" strike="noStrike">
                <a:solidFill>
                  <a:srgbClr val="000000"/>
                </a:solidFill>
                <a:latin typeface="Times New Roman"/>
              </a:rPr>
              <a:t>	</a:t>
            </a:r>
            <a:r>
              <a:rPr b="0" sz="1200" spc="-1" strike="noStrike" u="sng">
                <a:solidFill>
                  <a:srgbClr val="000000"/>
                </a:solidFill>
                <a:uFillTx/>
                <a:latin typeface="Times New Roman"/>
              </a:rPr>
              <a:t>Overlapping contours or interposition of objects</a:t>
            </a:r>
            <a:r>
              <a:rPr b="0" sz="1200" spc="-1" strike="noStrike">
                <a:solidFill>
                  <a:srgbClr val="000000"/>
                </a:solidFill>
                <a:latin typeface="Times New Roman"/>
              </a:rPr>
              <a:t>.  When</a:t>
            </a:r>
            <a:r>
              <a:rPr b="0" lang="en-US" sz="1200" spc="-1" strike="noStrike">
                <a:solidFill>
                  <a:srgbClr val="000000"/>
                </a:solidFill>
                <a:latin typeface="Times New Roman"/>
              </a:rPr>
              <a:t> </a:t>
            </a:r>
            <a:r>
              <a:rPr b="0" sz="1200" spc="-1" strike="noStrike">
                <a:solidFill>
                  <a:srgbClr val="000000"/>
                </a:solidFill>
                <a:latin typeface="Times New Roman"/>
              </a:rPr>
              <a:t>objects overlap, the overlapped object is farther away, as illustrated in Figure 1-12.  This overlapping is especially important to consider at night during a landing approach.  Lights disappearing or flickering in the landing area indicate barriers between the landing area and the aircraft.  The flight path should be adjusted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838080" y="4114800"/>
            <a:ext cx="5181840" cy="5029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000" spc="-1" strike="noStrike">
                <a:solidFill>
                  <a:srgbClr val="000000"/>
                </a:solidFill>
                <a:latin typeface="Times New Roman"/>
              </a:rPr>
              <a:t>(4)</a:t>
            </a:r>
            <a:r>
              <a:rPr b="0" lang="en-US" sz="1000" spc="-1" strike="noStrike">
                <a:solidFill>
                  <a:srgbClr val="000000"/>
                </a:solidFill>
                <a:latin typeface="Times New Roman"/>
              </a:rPr>
              <a:t>	</a:t>
            </a:r>
            <a:r>
              <a:rPr b="0" lang="en-US" sz="1000" spc="-1" strike="noStrike" u="sng">
                <a:solidFill>
                  <a:srgbClr val="000000"/>
                </a:solidFill>
                <a:uFillTx/>
                <a:latin typeface="Times New Roman"/>
              </a:rPr>
              <a:t>Aerial perspective</a:t>
            </a:r>
            <a:r>
              <a:rPr b="0" lang="en-US" sz="1000" spc="-1" strike="noStrike">
                <a:solidFill>
                  <a:srgbClr val="000000"/>
                </a:solidFill>
                <a:latin typeface="Times New Roman"/>
              </a:rPr>
              <a:t>.  The clarity of an object and the shadow cast by it are perceived by the brain and are cues for estimating distance.  Several aerial perspective factors are used to determine dist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r>
              <a:rPr b="0" lang="en-US" sz="1000" spc="-1" strike="noStrike">
                <a:solidFill>
                  <a:srgbClr val="000000"/>
                </a:solidFill>
                <a:latin typeface="Times New Roman"/>
              </a:rPr>
              <a:t>	</a:t>
            </a:r>
            <a:r>
              <a:rPr b="0" lang="en-US" sz="1000" spc="-1" strike="noStrike" u="sng">
                <a:solidFill>
                  <a:srgbClr val="000000"/>
                </a:solidFill>
                <a:uFillTx/>
                <a:latin typeface="Times New Roman"/>
              </a:rPr>
              <a:t>Variations in color</a:t>
            </a:r>
            <a:r>
              <a:rPr b="0" lang="en-US" sz="1000" spc="-1" strike="noStrike">
                <a:solidFill>
                  <a:srgbClr val="000000"/>
                </a:solidFill>
                <a:latin typeface="Times New Roman"/>
              </a:rPr>
              <a:t> or shade.  Subtle variations in color or shade are clearer the closer the observer is to an object.  However, as distance increases, these distinctions blur.  For example, the side of a hill from a distance will appear to be a uniform shade with no distinguishable shape.  As the aircrew flies closer to the hill, the shades produced by individual trees and the spaces in between those trees become noticeable.  Thus under high light levels at night, color or shade can provide cues for distance estim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r>
              <a:rPr b="0" lang="en-US" sz="1000" spc="-1" strike="noStrike">
                <a:solidFill>
                  <a:srgbClr val="000000"/>
                </a:solidFill>
                <a:latin typeface="Times New Roman"/>
              </a:rPr>
              <a:t>	</a:t>
            </a:r>
            <a:r>
              <a:rPr b="0" lang="en-US" sz="1000" spc="-1" strike="noStrike" u="sng">
                <a:solidFill>
                  <a:srgbClr val="000000"/>
                </a:solidFill>
                <a:uFillTx/>
                <a:latin typeface="Times New Roman"/>
              </a:rPr>
              <a:t>Loss of detail or texture</a:t>
            </a:r>
            <a:r>
              <a:rPr b="0" lang="en-US" sz="1000" spc="-1" strike="noStrike">
                <a:solidFill>
                  <a:srgbClr val="000000"/>
                </a:solidFill>
                <a:latin typeface="Times New Roman"/>
              </a:rPr>
              <a:t>.  As a person gets farther from an object, discrete details become less apparent.  For example, when a cornfield becomes a solid color and the leaves and branches of a tree become a solid mass, the objects are judged to be far away.  Because reduced illumination also decreases resolution, these cues will disappear shortly after sunset or be limited to close viewing dist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r>
              <a:rPr b="0" lang="en-US" sz="1000" spc="-1" strike="noStrike">
                <a:solidFill>
                  <a:srgbClr val="000000"/>
                </a:solidFill>
                <a:latin typeface="Times New Roman"/>
              </a:rPr>
              <a:t>	</a:t>
            </a:r>
            <a:r>
              <a:rPr b="0" lang="en-US" sz="1000" spc="-1" strike="noStrike" u="sng">
                <a:solidFill>
                  <a:srgbClr val="000000"/>
                </a:solidFill>
                <a:uFillTx/>
                <a:latin typeface="Times New Roman"/>
              </a:rPr>
              <a:t>Position of light source and direction of</a:t>
            </a:r>
            <a:r>
              <a:rPr b="0" lang="en-US" sz="1000" spc="-1" strike="noStrike">
                <a:solidFill>
                  <a:srgbClr val="000000"/>
                </a:solidFill>
                <a:latin typeface="Times New Roman"/>
              </a:rPr>
              <a:t> shadow.  Every object will cast a shadow from a light source.  The direction in which the shadow is cast depends on the position of the light source.  If the shadow of an object is toward the observer, the object is closer than the light source is to the observer.  Figure 1-13 illustrates light and shadows.  For example, a helicopter observed near an airport is judged to be in the traffic pattern and, therefore, at about the same distance as the airfield. Figure 1-11 illustrates terrestrial associ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Motion parallax</a:t>
            </a:r>
            <a:r>
              <a:rPr b="0" lang="en-US" sz="1000" spc="-1" strike="noStrike">
                <a:solidFill>
                  <a:srgbClr val="000000"/>
                </a:solidFill>
                <a:latin typeface="Times New Roman"/>
              </a:rPr>
              <a:t>.  This cue to depth perception is a means of judging distances under reduced illumination.  Motion parallax refers to the apparent motion of stationary objects as viewed by an observer moving across the landscape.  When the crewmember looks outside the aircraft, perpendicular to the direction of travel, near objects appear to move backward, past, or opposite the path of motion.  Far objects seem to move in the direction of motion or remain fixed.  The rate of apparent movement depends on the distance the observer is from the object.  For example, as an aviator flies low level, objects near the aircraft will appear to rush past the aircraft while a mountain range near the horizon will appear stationary.  As the aviator flies across a power line that extends to the horizon, that part of the power line near the aircraft will appear to move swiftly, opposite the path of motion.  Toward the horizon, the same power line will appear fixed.</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VISU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ing visual information increases the probability of spatial disorientation.  Reduced visual references also create several illusions that can induce spatial disorientation.  Many types of visual illusions can occur in the aviation environment.  Included among them are autokinesis, ground light misinterpretation, relative motion, reversible perspective illusion, false horizons, altered reference planes, and height perception illusion, others include flicker vertigo, fascination (fixation), structural illusions, and size-distance il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u="sng">
                <a:solidFill>
                  <a:srgbClr val="000000"/>
                </a:solidFill>
                <a:uFillTx/>
                <a:latin typeface="Times New Roman"/>
              </a:rPr>
              <a:t>Autokinesis</a:t>
            </a:r>
            <a:r>
              <a:rPr b="0" lang="en-US" sz="1200" spc="-1" strike="noStrike">
                <a:solidFill>
                  <a:srgbClr val="000000"/>
                </a:solidFill>
                <a:latin typeface="Times New Roman"/>
              </a:rPr>
              <a:t>.  When a static light is stared at in the dark, the light appears to move, as shown in Figure 1-14.  This phenomenon can be readily demonstrated by staring at a lighted cigarette in a dark room.  Apparent movement will begin in about 8 to l0 seconds.  Although the cause of autokinesis is not known, it appears to be related to the loss of surrounding references that normally serve to stabilize visual perceptions.  This illusion can be eliminated or reduced by visual scanning, by increasing the number of lights, or by varying the light intensity.  The most important of the three solutions is visual scanning.  A light or lights should not be stared at for more than 10 seconds.  This illusion is not limited to light in darkness.  It can occur whenever a small, bright, still object is stared at against a dull dark or nondescript background.  Similarly, it can occur when a small, dark, still object is viewed against a light, structureless environment.  Anytime visual references are not available, aircrews are subject to this il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u="sng">
                <a:solidFill>
                  <a:srgbClr val="000000"/>
                </a:solidFill>
                <a:uFillTx/>
                <a:latin typeface="Times New Roman"/>
              </a:rPr>
              <a:t>Ground Light Misinterpretation</a:t>
            </a:r>
            <a:r>
              <a:rPr b="0" lang="en-US" sz="1200" spc="-1" strike="noStrike">
                <a:solidFill>
                  <a:srgbClr val="000000"/>
                </a:solidFill>
                <a:latin typeface="Times New Roman"/>
              </a:rPr>
              <a:t>.  A common occurrence is to confuse ground lights with stars.  When this happens, aviators unknowingly position aircraft in unusual attitudes to keep the ground lights--believed to be stars--above them.  For example, some aviators have mistaken the lights along a seashore for the horizon and have maneuvered their aircraft dangerously close to the sea; they believed they were flying straight and level.  Aviators have also confused certain geometric patterns of ground lights.  For example, aviators have identified moving trains as landing zone lights and have been badly shaken by their near misses.  To avoid these problems, aviators should cross-check aircraft instruments.  Also, position lights of other aircraft in formation can be mistaken for ground lights and might be lost against the horizon when another aircraft is at or below the altitude of the observer.  Figure 1-15 illustrates ground light and skylight il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Times New Roman"/>
              </a:rPr>
              <a:t>	</a:t>
            </a:r>
            <a:r>
              <a:rPr b="0" lang="en-US" sz="1200" spc="-1" strike="noStrike" u="sng">
                <a:solidFill>
                  <a:srgbClr val="000000"/>
                </a:solidFill>
                <a:uFillTx/>
                <a:latin typeface="Times New Roman"/>
              </a:rPr>
              <a:t>Relative Motion</a:t>
            </a:r>
            <a:r>
              <a:rPr b="0" lang="en-US" sz="1200" spc="-1" strike="noStrike">
                <a:solidFill>
                  <a:srgbClr val="000000"/>
                </a:solidFill>
                <a:latin typeface="Times New Roman"/>
              </a:rPr>
              <a:t>.  The illusion of relative motion can be illustrated by an example.  An aviator hovers an aircraft and waits for hover taxi instructions.  Another aircraft hovers alongside.  As the other aircraft is picked up in the first aviator's peripheral vision, the aviator senses movement in the opposite direction.  This illusion may be encountered during multi-helicopter operations.  Aircrews may mistake the motion of another aircraft for that of their own.  The only way to correct for this illusion is to have sufficient experience to understand that such illusions do occur and to not react to them on the controls.  The use of proper scanning techniques can help prevent this il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0" lang="en-US" sz="1200" spc="-1" strike="noStrike">
                <a:solidFill>
                  <a:srgbClr val="000000"/>
                </a:solidFill>
                <a:latin typeface="Times New Roman"/>
              </a:rPr>
              <a:t>	</a:t>
            </a:r>
            <a:r>
              <a:rPr b="0" lang="en-US" sz="1200" spc="-1" strike="noStrike" u="sng">
                <a:solidFill>
                  <a:srgbClr val="000000"/>
                </a:solidFill>
                <a:uFillTx/>
                <a:latin typeface="Times New Roman"/>
              </a:rPr>
              <a:t>Reversible Perspective Illusion</a:t>
            </a:r>
            <a:r>
              <a:rPr b="0" lang="en-US" sz="1200" spc="-1" strike="noStrike">
                <a:solidFill>
                  <a:srgbClr val="000000"/>
                </a:solidFill>
                <a:latin typeface="Times New Roman"/>
              </a:rPr>
              <a:t>.  At night, an aircraft may </a:t>
            </a:r>
            <a:r>
              <a:rPr b="1" lang="en-US" sz="1200" spc="-1" strike="noStrike">
                <a:solidFill>
                  <a:srgbClr val="000000"/>
                </a:solidFill>
                <a:latin typeface="Times New Roman"/>
              </a:rPr>
              <a:t>appear </a:t>
            </a:r>
            <a:r>
              <a:rPr b="0" lang="en-US" sz="1200" spc="-1" strike="noStrike">
                <a:solidFill>
                  <a:srgbClr val="000000"/>
                </a:solidFill>
                <a:latin typeface="Times New Roman"/>
              </a:rPr>
              <a:t>to be going away when it is, in fact, approaching a second aircraft.  This illusion often occurs when an aircraft is flying parallel to another's course.  To determine the direction of flight, aircrews should observe aircraft lights and their relative position to the horizon.  If the intensity of the lights increases, the aircraft is approaching.  If the lights dim, the aircraft is moving away.  Also, remembering the '13 Rs" will help identify the direction of travel when other aircraft are encountered.  If the red aircraft position lights are on the </a:t>
            </a:r>
            <a:r>
              <a:rPr b="0" lang="en-US" sz="1200" spc="-1" strike="noStrike" u="sng">
                <a:solidFill>
                  <a:srgbClr val="000000"/>
                </a:solidFill>
                <a:uFillTx/>
                <a:latin typeface="Times New Roman"/>
              </a:rPr>
              <a:t>right</a:t>
            </a:r>
            <a:r>
              <a:rPr b="0" lang="en-US" sz="1200" spc="-1" strike="noStrike">
                <a:solidFill>
                  <a:srgbClr val="000000"/>
                </a:solidFill>
                <a:latin typeface="Times New Roman"/>
              </a:rPr>
              <a:t>, the aircraft is </a:t>
            </a:r>
            <a:r>
              <a:rPr b="0" lang="en-US" sz="1200" spc="-1" strike="noStrike" u="sng">
                <a:solidFill>
                  <a:srgbClr val="000000"/>
                </a:solidFill>
                <a:uFillTx/>
                <a:latin typeface="Times New Roman"/>
              </a:rPr>
              <a:t>returning</a:t>
            </a:r>
            <a:r>
              <a:rPr b="0" lang="en-US" sz="1200" spc="-1" strike="noStrike">
                <a:solidFill>
                  <a:srgbClr val="000000"/>
                </a:solidFill>
                <a:latin typeface="Times New Roman"/>
              </a:rPr>
              <a:t> (coming toward the ob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rPr>
              <a:t>	</a:t>
            </a:r>
            <a:r>
              <a:rPr b="0" lang="en-US" sz="1200" spc="-1" strike="noStrike" u="sng">
                <a:solidFill>
                  <a:srgbClr val="000000"/>
                </a:solidFill>
                <a:uFillTx/>
                <a:latin typeface="Times New Roman"/>
              </a:rPr>
              <a:t>False Horizons</a:t>
            </a:r>
            <a:r>
              <a:rPr b="0" lang="en-US" sz="1200" spc="-1" strike="noStrike">
                <a:solidFill>
                  <a:srgbClr val="000000"/>
                </a:solidFill>
                <a:latin typeface="Times New Roman"/>
              </a:rPr>
              <a:t>.  Cloud formations may be confused with the horizon or the ground.  Momentary confusion may result when the aviator looks up after having given prolonged attention to a task in the cockpit.  Because outside references for attitude are less obvious and reliable at night, aviators should rely less on them during night flight.  Using instrument cross-checks can help prevent this situation.  While hovering over terrain that is not perfectly level, aviators might mistake the sloped ground in front of the aircraft for the horizon and cause the aircraft to drift while trying to maintain a stationary position.  Figure 1-16 illustrates false horizon il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040" y="4343040"/>
            <a:ext cx="518148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u="sng">
                <a:solidFill>
                  <a:srgbClr val="000000"/>
                </a:solidFill>
                <a:uFillTx/>
                <a:latin typeface="Times New Roman"/>
              </a:rPr>
              <a:t>Altered Reference Planes</a:t>
            </a:r>
            <a:r>
              <a:rPr b="0" lang="en-US" sz="1200" spc="-1" strike="noStrike">
                <a:solidFill>
                  <a:srgbClr val="000000"/>
                </a:solidFill>
                <a:latin typeface="Times New Roman"/>
              </a:rPr>
              <a:t>.  When approaching a line of mountains or clouds, aviators may feel that they need to climb even though their altitude is adequate.  Also, when flying parallel to a line of clouds, aviators </a:t>
            </a:r>
            <a:r>
              <a:rPr b="1" lang="en-US" sz="1200" spc="-1" strike="noStrike">
                <a:solidFill>
                  <a:srgbClr val="000000"/>
                </a:solidFill>
                <a:latin typeface="Times New Roman"/>
              </a:rPr>
              <a:t>may</a:t>
            </a:r>
            <a:r>
              <a:rPr b="0" lang="en-US" sz="1200" spc="-1" strike="noStrike">
                <a:solidFill>
                  <a:srgbClr val="000000"/>
                </a:solidFill>
                <a:latin typeface="Times New Roman"/>
              </a:rPr>
              <a:t> tend to tilt the aircraft away from the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r>
              <a:rPr b="0" lang="en-US" sz="1200" spc="-1" strike="noStrike">
                <a:solidFill>
                  <a:srgbClr val="000000"/>
                </a:solidFill>
                <a:latin typeface="Times New Roman"/>
              </a:rPr>
              <a:t>	</a:t>
            </a:r>
            <a:r>
              <a:rPr b="0" lang="en-US" sz="1200" spc="-1" strike="noStrike" u="sng">
                <a:solidFill>
                  <a:srgbClr val="000000"/>
                </a:solidFill>
                <a:uFillTx/>
                <a:latin typeface="Times New Roman"/>
              </a:rPr>
              <a:t>Height Perception Illusion</a:t>
            </a:r>
            <a:r>
              <a:rPr b="0" lang="en-US" sz="1200" spc="-1" strike="noStrike">
                <a:solidFill>
                  <a:srgbClr val="000000"/>
                </a:solidFill>
                <a:latin typeface="Times New Roman"/>
              </a:rPr>
              <a:t>.  When flying over desert, snow, water, or other areas of poor contrast, crew members may experience the illusion of being higher above the terrain than they actually are.  This is due to the lack of visual references.  This illusion may be overcome by dropping an object, such as a chemical light stick or flare, on the ground before landing.  Another technique to overcome this illusion is to monitor the shadows cast by near objects, such as the landing gear, or skid shadows at a hover.  Flight in an area where visibility is restricted by haze, smoke, or fog produces the same il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a:solidFill>
                  <a:srgbClr val="000000"/>
                </a:solidFill>
                <a:latin typeface="Times New Roman"/>
              </a:rPr>
              <a:t>	</a:t>
            </a:r>
            <a:r>
              <a:rPr b="0" lang="en-US" sz="1200" spc="-1" strike="noStrike" u="sng">
                <a:solidFill>
                  <a:srgbClr val="000000"/>
                </a:solidFill>
                <a:uFillTx/>
                <a:latin typeface="Times New Roman"/>
              </a:rPr>
              <a:t>Flicker Vertigo</a:t>
            </a:r>
            <a:r>
              <a:rPr b="0" lang="en-US" sz="1200" spc="-1" strike="noStrike">
                <a:solidFill>
                  <a:srgbClr val="000000"/>
                </a:solidFill>
                <a:latin typeface="Times New Roman"/>
              </a:rPr>
              <a:t>.  Much time and research have been devoted to the study of flicker vertigo.  A light flickering at a rate between 4 and 20 cycles per second can produce unpleasant and dangerous reactions.  Such conditions as nausea, vomiting, and vertigo may occur.  On rare occasions, convulsions and unconsciousness may also occur.  Fatigue, frustration, and boredom tend to intensify these reactions.  During the day, the problem can be caused by sunlight flickering through rotor blades or propellers.  At night, it can also be caused by an anticollision light reflecting against an overcast sky, haze, or the rotor system.  This can be corrected by turning the anticollision light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a:solidFill>
                  <a:srgbClr val="000000"/>
                </a:solidFill>
                <a:latin typeface="Times New Roman"/>
              </a:rPr>
              <a:t>	</a:t>
            </a:r>
            <a:r>
              <a:rPr b="0" lang="en-US" sz="1200" spc="-1" strike="noStrike" u="sng">
                <a:solidFill>
                  <a:srgbClr val="000000"/>
                </a:solidFill>
                <a:uFillTx/>
                <a:latin typeface="Times New Roman"/>
              </a:rPr>
              <a:t>Fascination (Fixation)</a:t>
            </a:r>
            <a:r>
              <a:rPr b="0" lang="en-US" sz="1200" spc="-1" strike="noStrike">
                <a:solidFill>
                  <a:srgbClr val="000000"/>
                </a:solidFill>
                <a:latin typeface="Times New Roman"/>
              </a:rPr>
              <a:t>.  This illusion occurs when aviators ignore orientation cues and fix their attention on a goal or an object.  This is dangerous because aircraft ground-closure rates are difficult to determine at night; normal daylight peripheral movement is reduced or absent.  Target hypnosis is a common type of fascination.  For example, an aviator intent on hitting a target during a gunnery run may delay pull-up so long that the aircraft contacts the ground.  Preventing this illusion requires increased scanning by the avi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Times New Roman"/>
              </a:rPr>
              <a:t>	</a:t>
            </a:r>
            <a:r>
              <a:rPr b="0" lang="en-US" sz="1200" spc="-1" strike="noStrike" u="sng">
                <a:solidFill>
                  <a:srgbClr val="000000"/>
                </a:solidFill>
                <a:uFillTx/>
                <a:latin typeface="Times New Roman"/>
              </a:rPr>
              <a:t>Structural Illusions</a:t>
            </a:r>
            <a:r>
              <a:rPr b="0" lang="en-US" sz="1200" spc="-1" strike="noStrike">
                <a:solidFill>
                  <a:srgbClr val="000000"/>
                </a:solidFill>
                <a:latin typeface="Times New Roman"/>
              </a:rPr>
              <a:t>.  Structural illusions are caused by heat waves, rain, snow, sleet, or other factors that obscure vision.  For example, a straight line may appear to be curved when seen through a desert heat wave or a wing-tip light may appear to double or move when viewed during a rain s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r>
              <a:rPr b="0" lang="en-US" sz="1200" spc="-1" strike="noStrike">
                <a:solidFill>
                  <a:srgbClr val="000000"/>
                </a:solidFill>
                <a:latin typeface="Times New Roman"/>
              </a:rPr>
              <a:t>	</a:t>
            </a:r>
            <a:r>
              <a:rPr b="0" lang="en-US" sz="1200" spc="-1" strike="noStrike" u="sng">
                <a:solidFill>
                  <a:srgbClr val="000000"/>
                </a:solidFill>
                <a:uFillTx/>
                <a:latin typeface="Times New Roman"/>
              </a:rPr>
              <a:t>Size-Distance Illusion</a:t>
            </a:r>
            <a:r>
              <a:rPr b="0" lang="en-US" sz="1200" spc="-1" strike="noStrike">
                <a:solidFill>
                  <a:srgbClr val="000000"/>
                </a:solidFill>
                <a:latin typeface="Times New Roman"/>
              </a:rPr>
              <a:t>.  This illusion results from viewing a source of light that is increasing or decreasing in luminance (brightness).  The aviator may interpret the light as approaching or retreating.  For example, when an aviator, hovering near a second aircraft, changes the position lights from DIM to BRIGHT, the other aircraft may appear to jump towar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moon phase takes about seven days. Moon angle changes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grees per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 light becomes unusable 12 degrees below the horiz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040" y="4495320"/>
            <a:ext cx="5181480" cy="449604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u="sng">
                <a:solidFill>
                  <a:srgbClr val="000000"/>
                </a:solidFill>
                <a:uFillTx/>
                <a:latin typeface="Times New Roman"/>
              </a:rPr>
              <a:t>Clouds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Clouds reduce hemispherical illumination to some extent.  The exact amount of reflection or absorption of light energy by different cloud types is not known.  Therefore, a common factor cannot be applied to each condition of cloud coverage.  A subjective evaluation of light reduction caused by clouds can be made by considering the amount of cloud coverage and the density, or thickness, of the clouds.  For example, a thick, overcast layer of clouds will reduce the ambient light to a much greater degree than a thin, broken layer of clouds.  The combined effects of two or more layers of clouds must also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Because of reduced night vision (unaided or aided), aviators may fail to detect a gradual increase in cloud coverage and may, without warning, inadvertently enter the clouds.  At night aircrews must be alert for indications that clouds are present.  Some of these indications are discussed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light level is gradually reduced.  Visual acuity and terrain contrast are also reduced or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moon and stars are obscured.  The less visible the moon and stars,, the heavier the cloud co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hadows obscure the moon's illumination.  Crewmembers can detect these shadows by observing the varying levels of ambient light along the flight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0" lang="en-US" sz="1200" spc="-1" strike="noStrike" u="sng">
                <a:solidFill>
                  <a:srgbClr val="000000"/>
                </a:solidFill>
                <a:uFillTx/>
                <a:latin typeface="Times New Roman"/>
              </a:rPr>
              <a:t>Fog, Dust, Haze, and Smok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Visibility restrictions reduce hemispherical illumination.  Conditions such as ground fog, dust, haze, or smoke are more pronounced lower altitudes.  Haze is common around large c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robability of fog increases as the temperature decreases and the dew point spread approaches zero.  A decrease in the intensity of ground lights indicates an increase in the moisture content of the air.  A halo effect around ground lights indicates that moisture is in the air and that ground fog may be forming.  The halo effect is more pronounced with I' devices.  Aviators using I' devices can "see" through fog, snow, and rain better than with the unaided eye.  This may result in less reaction time for the aviator to avoid entering I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0" lang="en-US" sz="1200" spc="-1" strike="noStrike" u="sng">
                <a:solidFill>
                  <a:srgbClr val="000000"/>
                </a:solidFill>
                <a:uFillTx/>
                <a:latin typeface="Times New Roman"/>
              </a:rPr>
              <a:t>Lightning</a:t>
            </a:r>
            <a:r>
              <a:rPr b="0" lang="en-US" sz="1200" spc="-1" strike="noStrike">
                <a:solidFill>
                  <a:srgbClr val="000000"/>
                </a:solidFill>
                <a:latin typeface="Times New Roman"/>
              </a:rPr>
              <a:t>.  At least one meteorological phenomenon increases illumination.  Lightning flashes have an effect similar to that of a bright flare.  The intensity of the illumination depends on how near the lightning is. Night vision may be impaired if the aircrew is too close to lightn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IN FLIGHT: Depends on factors of METT-T ( mission ,enemy,terrain time and tro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 STRESSORS:IP DEATH ( illness,physical condition, drugs, exhaustion, alcohol, tobacco, and hypoglyce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Terrain interpretation will be affected by the seasons, flight altitude, and the familiarity of the man made in the A/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AND VISUAL AIDS: Most commonly used maps are 1:250,000 ‘ 1:500,000, and 1:50,000. Visual aids such as aerial photos and sand tables/terrain should be uses when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t:Current enemy situation, antiaircraft and ADA capability,and enemy’s surveillance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The air mission commander must make a risk assessment while planning the mission, and continue to update the assessment during the mission so as to minimize the risk when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PIC: Day type vision, uses cones cells concentrated in the fov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entralis. Sharp image and color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IC: Dawn or dusk and or full moon. Vision uses both rods and c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w members should use off center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OPIC: Low light levels, rod cells become more effective, poor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uity less than 20/200, loss of color vision, and night blind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present in centra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0DE49-F29A-4571-BD86-71036FB27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4196E-2CE4-442D-BFC4-5CCE0604D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20C0F-3A95-44C8-9D6B-EC2613CB7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5E482-9ED2-47F6-B4B9-6FD191F90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5AB3-D87D-484A-B030-902565FDF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78B1-A38F-413F-9F1A-7A28925F8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9220-39C5-4891-B23C-314F01385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8F09D-06A2-455A-AAF3-476A5C88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4346F-7B51-4282-B629-5E7F13D8C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745D-B780-46B1-A089-8877A638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FAC2-481F-46D6-BF4D-29D62D5AF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CBD0-8B69-4286-BB2D-35C4932CD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2560-0DE4-4913-955C-97EAC8448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atch-c" descr=""/>
          <p:cNvPicPr/>
          <p:nvPr/>
        </p:nvPicPr>
        <p:blipFill>
          <a:blip r:embed="rId2"/>
          <a:stretch/>
        </p:blipFill>
        <p:spPr>
          <a:xfrm>
            <a:off x="771480" y="585720"/>
            <a:ext cx="1590840" cy="1189080"/>
          </a:xfrm>
          <a:prstGeom prst="rect">
            <a:avLst/>
          </a:prstGeom>
          <a:ln w="0">
            <a:noFill/>
          </a:ln>
        </p:spPr>
      </p:pic>
      <p:sp>
        <p:nvSpPr>
          <p:cNvPr id="6" name=""/>
          <p:cNvSpPr/>
          <p:nvPr/>
        </p:nvSpPr>
        <p:spPr>
          <a:xfrm>
            <a:off x="685800" y="1752480"/>
            <a:ext cx="7772400" cy="76320"/>
          </a:xfrm>
          <a:prstGeom prst="rect">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 name=""/>
          <p:cNvSpPr/>
          <p:nvPr/>
        </p:nvSpPr>
        <p:spPr>
          <a:xfrm>
            <a:off x="762120" y="1828800"/>
            <a:ext cx="777240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VG Academic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F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eye4" descr=""/>
          <p:cNvPicPr/>
          <p:nvPr/>
        </p:nvPicPr>
        <p:blipFill>
          <a:blip r:embed="rId1"/>
          <a:stretch/>
        </p:blipFill>
        <p:spPr>
          <a:xfrm>
            <a:off x="0" y="2286000"/>
            <a:ext cx="9144000" cy="4002120"/>
          </a:xfrm>
          <a:prstGeom prst="rect">
            <a:avLst/>
          </a:prstGeom>
          <a:ln w="0">
            <a:noFill/>
          </a:ln>
        </p:spPr>
      </p:pic>
      <p:sp>
        <p:nvSpPr>
          <p:cNvPr id="71" name=""/>
          <p:cNvSpPr/>
          <p:nvPr/>
        </p:nvSpPr>
        <p:spPr>
          <a:xfrm>
            <a:off x="2362320" y="609480"/>
            <a:ext cx="609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rPr>
              <a:t>Astigmatism</a:t>
            </a:r>
            <a:br>
              <a:rPr sz="44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ocular Cue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metric Perspectiv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Perspective</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arent Foreshortening</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Positioning in the Field</a:t>
            </a:r>
            <a:endParaRPr b="0" lang="en-US" sz="28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inal Image Siz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n Size of Object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Decreasing Size of Object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restrial Association</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lapping Cont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metric Perspective</a:t>
            </a:r>
            <a:endParaRPr b="0" lang="en-US" sz="4400" spc="-1" strike="noStrike">
              <a:solidFill>
                <a:srgbClr val="000000"/>
              </a:solidFill>
              <a:latin typeface="Times New Roman"/>
            </a:endParaRPr>
          </a:p>
        </p:txBody>
      </p:sp>
      <p:pic>
        <p:nvPicPr>
          <p:cNvPr id="75" name="nvg5" descr=""/>
          <p:cNvPicPr/>
          <p:nvPr/>
        </p:nvPicPr>
        <p:blipFill>
          <a:blip r:embed="rId1"/>
          <a:stretch/>
        </p:blipFill>
        <p:spPr>
          <a:xfrm>
            <a:off x="228600" y="2133720"/>
            <a:ext cx="8763120" cy="434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nvg1" descr=""/>
          <p:cNvPicPr/>
          <p:nvPr/>
        </p:nvPicPr>
        <p:blipFill>
          <a:blip r:embed="rId1"/>
          <a:stretch/>
        </p:blipFill>
        <p:spPr>
          <a:xfrm>
            <a:off x="152280" y="2133720"/>
            <a:ext cx="8839440" cy="4424400"/>
          </a:xfrm>
          <a:prstGeom prst="rect">
            <a:avLst/>
          </a:prstGeom>
          <a:ln w="0">
            <a:noFill/>
          </a:ln>
        </p:spPr>
      </p:pic>
      <p:sp>
        <p:nvSpPr>
          <p:cNvPr id="77" name=""/>
          <p:cNvSpPr/>
          <p:nvPr/>
        </p:nvSpPr>
        <p:spPr>
          <a:xfrm>
            <a:off x="2362320" y="609480"/>
            <a:ext cx="609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nown Size of Obje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restrial Association</a:t>
            </a:r>
            <a:endParaRPr b="0" lang="en-US" sz="4400" spc="-1" strike="noStrike">
              <a:solidFill>
                <a:srgbClr val="000000"/>
              </a:solidFill>
              <a:latin typeface="Times New Roman"/>
            </a:endParaRPr>
          </a:p>
        </p:txBody>
      </p:sp>
      <p:pic>
        <p:nvPicPr>
          <p:cNvPr id="79" name="nvg2" descr=""/>
          <p:cNvPicPr/>
          <p:nvPr/>
        </p:nvPicPr>
        <p:blipFill>
          <a:blip r:embed="rId1"/>
          <a:stretch/>
        </p:blipFill>
        <p:spPr>
          <a:xfrm>
            <a:off x="152280" y="2895480"/>
            <a:ext cx="8839440" cy="346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lapping Contours</a:t>
            </a:r>
            <a:endParaRPr b="0" lang="en-US" sz="4400" spc="-1" strike="noStrike">
              <a:solidFill>
                <a:srgbClr val="000000"/>
              </a:solidFill>
              <a:latin typeface="Times New Roman"/>
            </a:endParaRPr>
          </a:p>
        </p:txBody>
      </p:sp>
      <p:pic>
        <p:nvPicPr>
          <p:cNvPr id="81" name="nvg3" descr=""/>
          <p:cNvPicPr/>
          <p:nvPr/>
        </p:nvPicPr>
        <p:blipFill>
          <a:blip r:embed="rId1"/>
          <a:stretch/>
        </p:blipFill>
        <p:spPr>
          <a:xfrm>
            <a:off x="0" y="2590920"/>
            <a:ext cx="9144000" cy="356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ocular Cues </a:t>
            </a:r>
            <a:r>
              <a:rPr b="0"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rial Perspect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 in Color or Sha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Texture or Det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on of Light Source and Direction of Shad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Parall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sual Illusions </a:t>
            </a:r>
            <a:r>
              <a:rPr b="0"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KINESI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ND LIGHT MISINTERPRE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RSIBLE PERSP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 HORIZ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sual Illusion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ED PLA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GHT PERCE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CKER VERTIG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CINATION/FIX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CUTURAL ILLU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DISTANCE ILLU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se Horizons</a:t>
            </a:r>
            <a:endParaRPr b="0" lang="en-US" sz="4400" spc="-1" strike="noStrike">
              <a:solidFill>
                <a:srgbClr val="000000"/>
              </a:solidFill>
              <a:latin typeface="Times New Roman"/>
            </a:endParaRPr>
          </a:p>
        </p:txBody>
      </p:sp>
      <p:pic>
        <p:nvPicPr>
          <p:cNvPr id="89" name="nvg4" descr=""/>
          <p:cNvPicPr/>
          <p:nvPr/>
        </p:nvPicPr>
        <p:blipFill>
          <a:blip r:embed="rId1"/>
          <a:stretch/>
        </p:blipFill>
        <p:spPr>
          <a:xfrm>
            <a:off x="152280" y="1928880"/>
            <a:ext cx="8763120" cy="482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Night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tomy of the Ey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cular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Illu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ispherical Illumination and Meteorological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ght Operations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mispherical Illumination</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ar Ligh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on Pha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o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Quart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Mo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Last) Quarte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ificial L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mispherical Illuminatio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eorological Eff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u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g, Dust, Haze, Smok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ning</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ight Operations</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ain Flight M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ological and Psychological Stress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s and Visual Ai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Night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tomy of the Ey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cular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Illu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ispherical Illumination and Meteorological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ght Operations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damentals of Night Visio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Vi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pi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opi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topi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y versus Night Vi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tomy of the Eye</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ght Blind Sp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y Blind Sp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tomy of the Eye</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eye1" descr=""/>
          <p:cNvPicPr/>
          <p:nvPr/>
        </p:nvPicPr>
        <p:blipFill>
          <a:blip r:embed="rId1"/>
          <a:stretch/>
        </p:blipFill>
        <p:spPr>
          <a:xfrm>
            <a:off x="609480" y="1981080"/>
            <a:ext cx="8001000" cy="476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ight Blind Spot</a:t>
            </a:r>
            <a:endParaRPr b="0" lang="en-US" sz="4400" spc="-1" strike="noStrike">
              <a:solidFill>
                <a:srgbClr val="000000"/>
              </a:solidFill>
              <a:latin typeface="Times New Roman"/>
            </a:endParaRPr>
          </a:p>
        </p:txBody>
      </p:sp>
      <p:pic>
        <p:nvPicPr>
          <p:cNvPr id="63" name="eye5" descr=""/>
          <p:cNvPicPr/>
          <p:nvPr/>
        </p:nvPicPr>
        <p:blipFill>
          <a:blip r:embed="rId1"/>
          <a:stretch/>
        </p:blipFill>
        <p:spPr>
          <a:xfrm>
            <a:off x="1447920" y="2066760"/>
            <a:ext cx="6324480" cy="479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rPr>
              <a:t>Visual Problem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op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ght Myop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igmat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byop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os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eye2" descr=""/>
          <p:cNvPicPr/>
          <p:nvPr/>
        </p:nvPicPr>
        <p:blipFill>
          <a:blip r:embed="rId1"/>
          <a:stretch/>
        </p:blipFill>
        <p:spPr>
          <a:xfrm>
            <a:off x="1523880" y="1989000"/>
            <a:ext cx="5943600" cy="4869000"/>
          </a:xfrm>
          <a:prstGeom prst="rect">
            <a:avLst/>
          </a:prstGeom>
          <a:ln w="0">
            <a:noFill/>
          </a:ln>
        </p:spPr>
      </p:pic>
      <p:sp>
        <p:nvSpPr>
          <p:cNvPr id="67" name=""/>
          <p:cNvSpPr/>
          <p:nvPr/>
        </p:nvSpPr>
        <p:spPr>
          <a:xfrm>
            <a:off x="2362320" y="609480"/>
            <a:ext cx="609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rPr>
              <a:t>Hyperopia</a:t>
            </a:r>
            <a:br>
              <a:rPr sz="44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eye3" descr=""/>
          <p:cNvPicPr/>
          <p:nvPr/>
        </p:nvPicPr>
        <p:blipFill>
          <a:blip r:embed="rId1"/>
          <a:stretch/>
        </p:blipFill>
        <p:spPr>
          <a:xfrm>
            <a:off x="1447920" y="1981080"/>
            <a:ext cx="6400800" cy="4851360"/>
          </a:xfrm>
          <a:prstGeom prst="rect">
            <a:avLst/>
          </a:prstGeom>
          <a:ln w="0">
            <a:noFill/>
          </a:ln>
        </p:spPr>
      </p:pic>
      <p:sp>
        <p:nvSpPr>
          <p:cNvPr id="69" name=""/>
          <p:cNvSpPr/>
          <p:nvPr/>
        </p:nvSpPr>
        <p:spPr>
          <a:xfrm>
            <a:off x="2362320" y="609480"/>
            <a:ext cx="609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rPr>
              <a:t>Myopia</a:t>
            </a:r>
            <a:br>
              <a:rPr sz="44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6T14:47:02Z</dcterms:created>
  <dc:creator>Eagles Nest</dc:creator>
  <dc:description/>
  <dc:language>en-US</dc:language>
  <cp:lastModifiedBy>CutrellW</cp:lastModifiedBy>
  <cp:lastPrinted>1999-05-17T18:59:35Z</cp:lastPrinted>
  <dcterms:modified xsi:type="dcterms:W3CDTF">2003-01-30T22:04:05Z</dcterms:modified>
  <cp:revision>24</cp:revision>
  <dc:subject/>
  <dc:title>Formation</dc:title>
</cp:coreProperties>
</file>