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465-1274-4459-9D0E-4E4B219E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F4C-8173-41BF-8C34-322FDB38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2DC-8C65-4B2B-BCD4-A1519067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943-8EDD-4486-A942-B49D840B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DAF-C811-4F5E-BF65-64482BD3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0CB-FD77-4936-9B75-54C14BE7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1FD-35E1-48CA-B64B-0FD68208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51C-FB15-4EB3-BCCD-D652BEFF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5A2-BDDA-43DB-A2B7-31B73881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357-2DC7-4A10-A511-8C3794C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9E0-4B1C-400D-8393-4546F2BC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482-BEFD-4AE5-823C-8FBE3DE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06AF-B0E9-44D4-AF5B-1CCE4907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ute LZ Mindy with a strict TOT to me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WY 2 (E-W) marks southern boundary of friendly terri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are NOE  in enemy territory when you get off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decide to climb up 100’ to get a better look at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are currently 7 NM EAST of the Bethlehem T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 of aircraft swings 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m ball is displaced to the le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ute LZ Mindy with a strict TOT to me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WY 2 (E-W) marks southern boundary of friendly terri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are NOE  in enemy territory when you get off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decide to climb up 100’ to get a better look at the 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 are currently 7 NM EAST of the Bethlehem T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6:35:24Z</dcterms:created>
  <dc:creator>Lauren Dare</dc:creator>
  <dc:description/>
  <dc:language>en-US</dc:language>
  <cp:lastModifiedBy>Valued Gateway Client</cp:lastModifiedBy>
  <dcterms:modified xsi:type="dcterms:W3CDTF">1999-10-25T23:04:55Z</dcterms:modified>
  <cp:revision>2</cp:revision>
  <dc:subject/>
  <dc:title>.</dc:title>
</cp:coreProperties>
</file>