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653-7CF7-47B7-B01F-25CF713E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56B-BACF-42DA-A928-95C4D40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256-DF62-4344-88B2-336D0543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C6F-768F-4637-B994-3B93C1CC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706-A570-4F26-80B8-8C61DDA3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3CB-3F82-4ED6-8ED6-3819D8E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325-AC97-4258-8745-579F9DBF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36D-4FD4-4686-AB30-775DC02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AD6-B495-4EBB-A16B-91E7029E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7E7-7A2E-4B18-B071-E6E5EC8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B86-0CB8-4DDC-B322-73EF1EC3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0A2-F443-40AE-8248-A5D257D7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7F5F-2EC8-4E98-A0E4-0CA0CDA26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y Procedure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driveshaf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engine malfunction in-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 under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 over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V closed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2 spur g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or st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gine Mal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ro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er Gov 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ine restart during fl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f 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NM northwest of RT-563 in friendly terri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’ AGL  9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ft y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38680" y="373356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gine Mal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ro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er Gov 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CY GOV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 Switch -- E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ttle -- Adjust as necessary to control R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engine torque will be reduced by how much when Gov Switch is in E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-8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eft%20side%20engine%20no%20labels" descr=""/>
          <p:cNvPicPr/>
          <p:nvPr/>
        </p:nvPicPr>
        <p:blipFill>
          <a:blip r:embed="rId1"/>
          <a:stretch/>
        </p:blipFill>
        <p:spPr>
          <a:xfrm>
            <a:off x="-320760" y="-351000"/>
            <a:ext cx="97855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P Battens enroute Lu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left%20side%20engine" descr=""/>
          <p:cNvPicPr/>
          <p:nvPr/>
        </p:nvPicPr>
        <p:blipFill>
          <a:blip r:embed="rId1"/>
          <a:stretch/>
        </p:blipFill>
        <p:spPr>
          <a:xfrm>
            <a:off x="-320760" y="-351000"/>
            <a:ext cx="97855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verspeed%20gov" descr=""/>
          <p:cNvPicPr/>
          <p:nvPr/>
        </p:nvPicPr>
        <p:blipFill>
          <a:blip r:embed="rId1"/>
          <a:stretch/>
        </p:blipFill>
        <p:spPr>
          <a:xfrm>
            <a:off x="11160" y="-209520"/>
            <a:ext cx="912024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engine%20driven%20fuel%20pump" descr=""/>
          <p:cNvPicPr/>
          <p:nvPr/>
        </p:nvPicPr>
        <p:blipFill>
          <a:blip r:embed="rId1"/>
          <a:stretch/>
        </p:blipFill>
        <p:spPr>
          <a:xfrm>
            <a:off x="11160" y="0"/>
            <a:ext cx="912024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engine%20fuel%20lines" descr=""/>
          <p:cNvPicPr/>
          <p:nvPr/>
        </p:nvPicPr>
        <p:blipFill>
          <a:blip r:embed="rId1"/>
          <a:stretch/>
        </p:blipFill>
        <p:spPr>
          <a:xfrm>
            <a:off x="11160" y="-209520"/>
            <a:ext cx="912024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86400" y="3276360"/>
            <a:ext cx="3657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route to RT Bonnie (NW of Flor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ly 2 NM east of RT Li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ly 200’ A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3760" y="34290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yaws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mbing through 400’ AG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in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34290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mbing through 600’ AG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in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4640" y="342864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ly at 800’ AG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½ NM south of RT Li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ds 180/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GINE OVER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  Throttle - re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Emer Gov 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  Gov Switch - E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  Throttle - adjust as necessary to control R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nd even if manual throttle corrects the overspeed since there is a chance of an impending engine failure due to the debris generated by the initial N2 fail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4120" y="3733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u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e left y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 in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descending @ 10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sing 700’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A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ximum engine torque available for any ambient condition will be reduced by 6 to 8 PSI when the GOV AUTO/EMER switch is placed in the EMER 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UE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2 Govern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lfunctions, throttle reduction will result in a corresponding decrease in N2 RP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event of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uel contro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lfunction, throttle reduction will have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ffect on N2 RP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mbing right turn from Golf Pad @ Lowe enroute to SW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ssing 6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S 7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ceased its climb, and is beginning to desc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3760" y="34290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 flight @ 7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LET GUIDE VANE FAILUR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(Closed Posi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xim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20-25 PSI of torque is available although N1 may appear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 applications above 20-25 will result in the deterioration of NR and N2 while increasing the N1 and E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omplish an approach and landing to the ground with torque not exceeding the maximum available.  If possible, a running landing is recomm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LET GUIDE VANE FAILURE (Open Posi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is occurs during normal flight, it is likely no indications will be eviden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acceleration times will be experien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power applications are made from increasingly lower N1 settings, acceleration times will correspondingly incr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s the purpose of the IGV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ange the angle of attack between the inlet air and first compressor rotor bl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ntain airflow requirements of the compressor rotor assembly which provides additional surge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ed and controlled by the Fuel Control Unit (fuel pressure actu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d at low RPM / Open at high R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ower%20plant%20color%20bmp" descr=""/>
          <p:cNvPicPr/>
          <p:nvPr/>
        </p:nvPicPr>
        <p:blipFill>
          <a:blip r:embed="rId1"/>
          <a:stretch/>
        </p:blipFill>
        <p:spPr>
          <a:xfrm>
            <a:off x="533520" y="0"/>
            <a:ext cx="9219960" cy="113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 differences between Inlet Guide Vane Failure and a Droop Compensator Fail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VI 20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passing 6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d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ll have 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121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38320" y="373356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NM west of RT 563-Li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 M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5867280"/>
            <a:ext cx="76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43600" y="4038120"/>
            <a:ext cx="2743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867280"/>
            <a:ext cx="914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0" y="4571640"/>
            <a:ext cx="228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5790960"/>
            <a:ext cx="106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62360" y="3505320"/>
            <a:ext cx="3352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2 Spur Gea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-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- Redu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til normal operating RPM is at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nd as so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2 Gearb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P Battens enroute Lu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0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 K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ight a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p ru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e engine v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ages flu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3760" y="34290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casional ru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casional engine vi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casional guages flu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descending @ 2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NGINE COMPRESSOR ST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 Red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-Ice and Bleed Air Switches -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and as soon a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passing 500’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VI 18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d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ll have vib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USES &amp;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eding the critical angle of attack of compressor bl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 accumulation on compressor bl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let guide vanes may f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eed band may fail by not preventing back 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el scheduling may be higher than nor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ower%20plant%20color%20bmp" descr=""/>
          <p:cNvPicPr/>
          <p:nvPr/>
        </p:nvPicPr>
        <p:blipFill>
          <a:blip r:embed="rId1"/>
          <a:stretch/>
        </p:blipFill>
        <p:spPr>
          <a:xfrm>
            <a:off x="533520" y="0"/>
            <a:ext cx="9219960" cy="113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 EGT limi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Green:  400-610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Yellow:  610-625 for 3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:  625 maximum for 3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25-675 for 10 seconds (starting and accel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75-760 for 5 seconds (starting and accel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:  760 max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6095520"/>
            <a:ext cx="762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62720" y="34290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/C passing 400’ M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VI 2000 ft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asing engin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brations subs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IN DRIVESHAFT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.  Autoro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 -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dals - Adj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irspeed - Adj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 Emergency Shut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rottle -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el Switches -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t switch -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en does the RPM Warning Light Illumin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329-339 (high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300-310 (low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2 6100-6300 (low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signal from either NR or N2 tach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en does the Horn and RPM Warning Light Illumin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R 330-310 (low warning) with N2 6100-6300 (low w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signal from BOTH NR or N2 tach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8:12:43Z</dcterms:created>
  <dc:creator>Valued Gateway Client</dc:creator>
  <dc:description/>
  <dc:language>en-US</dc:language>
  <cp:lastModifiedBy>CutrellW</cp:lastModifiedBy>
  <dcterms:modified xsi:type="dcterms:W3CDTF">2003-03-04T21:24:38Z</dcterms:modified>
  <cp:revision>4</cp:revision>
  <dc:subject/>
  <dc:title>.</dc:title>
</cp:coreProperties>
</file>