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ABB3-7EC6-41EA-99EF-A72ADD00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12C-FBA4-4BFC-9F52-DFC0B7F1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0AFB-C14A-4042-9DE9-AB622D06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1B37-0E98-4060-B70F-BAE7E393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E0A-5827-4011-BC21-E790DA43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15B-6883-4CD4-BEF0-BD358F81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1962-E239-4C30-8713-1C358756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6C95-278D-461D-92A4-A0F74B13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7A5-E993-4550-A5CF-0C7E092D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A45C-B09C-4526-A589-51D6EEC5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76B-75D0-494B-8ED3-4368EA45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A8BF-2223-40F7-BA8A-445D6980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DB6F-C3AB-41F0-A42E-BAE554C97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562720" y="34290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P Battens enroute Lu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00 M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 K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aight and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4120" y="373356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ud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re left y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e in engin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 vib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/C descending @ 1000 ft/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ssing 700’ M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562720" y="34290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VI 2000 ft/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/C passing 600 M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ed engin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ill have vib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562720" y="34290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/C passing 500’ M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VI 1800 ft/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ed engin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ill have vib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562720" y="34290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/C passing 400’ M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VI 2000 ft/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reasing engin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brations subs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AIN DRIVESHAFT 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1.  Autorot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llective - Adj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dals - Adju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rottle - Adj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irspeed - Adj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. Emergency Shut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rottle -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el Switches -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t switch -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en does the RPM Warning Light Illumin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R 329-339 (high w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R 300-310 (low w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2 6100-6300 (low w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 of signal from either NR tach genera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2 tach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en does the Horn and RPM Warning Light Illumin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R 300-310 (low warning) with N2 6100-6300 (low w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 of signal from BO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R and N2 tach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6:35:24Z</dcterms:created>
  <dc:creator>Lauren Dare</dc:creator>
  <dc:description/>
  <dc:language>en-US</dc:language>
  <cp:lastModifiedBy>CutrellW</cp:lastModifiedBy>
  <dcterms:modified xsi:type="dcterms:W3CDTF">2003-05-01T12:12:09Z</dcterms:modified>
  <cp:revision>9</cp:revision>
  <dc:subject/>
  <dc:title>.</dc:title>
</cp:coreProperties>
</file>