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A52-7671-47CD-9B88-1E6A6715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309-C791-4090-B37D-6EFD189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460-AFA8-4790-BA3C-14213575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B8B-A091-4D53-82DC-9A56E3F5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B90-AC3E-4AF3-A8B8-1BD0971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F8E-90C6-4E67-A456-6414F762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D23-7F34-4D39-995B-BF3D7947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914-C7B2-4D0D-94C9-72BF363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C94-3050-462C-BCC7-B9BE9AC3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093-1ECD-48BE-A778-116F4D6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F47-BE65-45ED-8B89-CFC66D4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2DA-1725-42A7-99FD-5F7A4F7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ACCC-D6F0-479B-AE57-5402D4204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38320" y="37335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NM west of RT 5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 M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867280"/>
            <a:ext cx="76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43600" y="403812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91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0" y="457164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790960"/>
            <a:ext cx="106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562360" y="3505320"/>
            <a:ext cx="3352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2 Spur Gea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-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- Redu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til normal operating RPM is at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2 Gear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8T14:31:21Z</dcterms:created>
  <dc:creator>Lauren Dare</dc:creator>
  <dc:description/>
  <dc:language>en-US</dc:language>
  <cp:lastModifiedBy>CutrellW</cp:lastModifiedBy>
  <dcterms:modified xsi:type="dcterms:W3CDTF">2003-03-04T21:20:23Z</dcterms:modified>
  <cp:revision>2</cp:revision>
  <dc:subject/>
  <dc:title>.</dc:title>
</cp:coreProperties>
</file>