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00C-BFA3-46CF-B55B-C36BB0F0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D33-BA54-4914-B4FE-7FE0A86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DEE-34E6-4175-BB7E-590CD06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A1C-CD65-416D-858A-A07BC773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23A-F00A-415C-80C2-3E7CF72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2C2-4561-4CC9-A4B1-50F961A5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4B3-7C96-4CB4-8350-2854684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733-F5F3-4648-9C72-34FE4391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E5F-AB21-4E13-B0C7-71DC6C7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669-3260-48E0-ADD0-C1BEC7B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1B8-96FC-4F14-B429-B0CFFB15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AE4-C187-485D-ABCC-9489E5D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115A-A218-4C66-A7CB-92D91955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y VFR, 90KIAS, 1000’ M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 rot="10800000">
            <a:off x="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86040" y="4191120"/>
            <a:ext cx="3429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1520" y="6171840"/>
            <a:ext cx="762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8:45:05Z</dcterms:created>
  <dc:creator>Lauren Dare</dc:creator>
  <dc:description/>
  <dc:language>en-US</dc:language>
  <cp:lastModifiedBy>CutrellW</cp:lastModifiedBy>
  <dcterms:modified xsi:type="dcterms:W3CDTF">2003-03-04T21:31:12Z</dcterms:modified>
  <cp:revision>6</cp:revision>
  <dc:subject/>
  <dc:title>EP OF THE DAY</dc:title>
</cp:coreProperties>
</file>