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3A6-B77C-4831-9F82-5FFDC7DC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0CA-938E-486F-ACE9-11F9EE8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808-5951-46F1-9091-D5ADA656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B84-9E20-45AB-874A-B9155D4B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724-49E3-43F7-8B79-FA012E4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91B-3A30-4F4C-9997-49D83FD4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3420-F26F-498E-BAC7-A56C5B3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150-1702-4C12-ACF5-88B024C7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905-D049-47A3-9FD0-F07C7193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C06-2BAC-4445-BF5A-2124566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A20-43EC-4E0E-B76C-BAA13912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F2D-4AE1-41C7-91A9-8935BB7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5D7F-5441-45C2-B058-42C821277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4120" y="3580920"/>
            <a:ext cx="3504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 the ground at LZ Mindy loading up an injured child (who was caught in the gears of a combine…but that’s another s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 needs to get to the Enterprise hospital A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are Junior’s last hope of surv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’ve been running for 90 minutes al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91320" y="3580920"/>
            <a:ext cx="3047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CutrellW</cp:lastModifiedBy>
  <dcterms:modified xsi:type="dcterms:W3CDTF">2003-05-01T12:09:01Z</dcterms:modified>
  <cp:revision>3</cp:revision>
  <dc:subject/>
  <dc:title>.</dc:title>
</cp:coreProperties>
</file>