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42F6-9B3A-4781-9FF8-AED947858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E32E-61D3-4FCF-A162-1CF26327F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A527-D272-4562-8BA9-2ACB2EEDA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9B13-D3CA-4BB7-B6EC-5225CA603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5EDD-7517-414D-9E51-1FCB71280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A301-8422-4219-BB12-ABBDECA59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A41F-8911-44BC-9939-790DB6119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25DA-38E1-498A-A42B-A738D98FC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2CDA-ECA1-4410-BCB7-D03DB78E4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1A4C-F48D-4022-8057-5A2ED6DC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9927-F8E2-4734-9E07-9AE37098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36EC-2838-4E0A-B11D-15876676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C66B4-BDD7-47D7-92F8-BA624B54ED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f0000"/>
                </a:solidFill>
                <a:latin typeface="Times New Roman"/>
              </a:rPr>
              <a:t>EP</a:t>
            </a:r>
            <a:br>
              <a:rPr sz="9600"/>
            </a:br>
            <a:r>
              <a:rPr b="1" i="1" lang="en-US" sz="9600" spc="-1" strike="noStrike">
                <a:solidFill>
                  <a:srgbClr val="ff0000"/>
                </a:solidFill>
                <a:latin typeface="Times New Roman"/>
              </a:rPr>
              <a:t>OF THE DA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5714640"/>
            <a:ext cx="121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638680" y="3733560"/>
            <a:ext cx="3200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put data 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5714640"/>
            <a:ext cx="121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638680" y="3733560"/>
            <a:ext cx="3200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bnormal feedback in cyclic and pedals are stiff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DRAULIC POWER FAIL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 Airspeed -- Adjust as necessary to attain the most comfortable level of control mov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 HYD CONT circuit breaker -- 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ydraulic Power is not restor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 HYD CONT circuit breaker --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 Land as soon as practical at an area that will permit a run-on landing with power.  Maintain airspeed at or above ETL until touchd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DRAULIC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What is the normal operating PSI of syste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800 P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 When will the HYD PRESSURE light illumina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00 +- 100 P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 When will it extinguis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800 +- 100 P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 How much pressure is trapped in the irreversible valves when the hydraulic power fail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00 P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hydraulic%20system%20color%20bmp" descr=""/>
          <p:cNvPicPr/>
          <p:nvPr/>
        </p:nvPicPr>
        <p:blipFill>
          <a:blip r:embed="rId1"/>
          <a:stretch/>
        </p:blipFill>
        <p:spPr>
          <a:xfrm>
            <a:off x="457200" y="0"/>
            <a:ext cx="9982080" cy="998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0T18:45:05Z</dcterms:created>
  <dc:creator>Lauren Dare</dc:creator>
  <dc:description/>
  <dc:language>en-US</dc:language>
  <cp:lastModifiedBy>Lauren Dare</cp:lastModifiedBy>
  <dcterms:modified xsi:type="dcterms:W3CDTF">1999-07-30T14:55:09Z</dcterms:modified>
  <cp:revision>8</cp:revision>
  <dc:subject/>
  <dc:title>EP OF THE DAY</dc:title>
</cp:coreProperties>
</file>