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1DA-DDFC-47DF-A26E-D4631C5F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420-3DD6-4DF1-BB7B-19510A2A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95A-F372-472D-9146-2BFDC81E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9B9-4C29-483B-B465-585A6DF8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08C-6501-45A6-816D-DA86C046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C9F-22E3-422E-B0FB-55AF68A1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1F5-EAC2-4F30-9E9A-BC4273E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554-355C-4001-97D4-938F3D9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277-3AE0-4E07-99DB-367B01DB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489-8BD7-4FD8-AD6C-AD5BCAE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90C-D532-4434-A7A1-17D0A58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AA6-938A-4979-9A20-4B6EAB95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E482-3EF6-49EB-806B-D30D2555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P Bridge en-route Sti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p ru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e engine v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ges flu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3760" y="34290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atic ru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atic engine v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atic, fluxing g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ased power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GT higher than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GINE COMPRESSOR ST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 Red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-Ice and Bleed Air Switches -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and as soon a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USES &amp;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essor blades exceeding the critical angle of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 accumulation on compressor bl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let guide vanes f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ed bands fa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rect fuel 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ower%20plant%20color%20bmp" descr=""/>
          <p:cNvPicPr/>
          <p:nvPr/>
        </p:nvPicPr>
        <p:blipFill>
          <a:blip r:embed="rId1"/>
          <a:stretch/>
        </p:blipFill>
        <p:spPr>
          <a:xfrm>
            <a:off x="533520" y="0"/>
            <a:ext cx="9219960" cy="113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 EGT limi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Green:  400-610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Yellow:  610-625 for 3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:  625 maximum for 3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25-675 for 10 seconds (starting and accel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75-760 for 5 seconds (starting and accel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:  760 max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6:35:24Z</dcterms:created>
  <dc:creator>Lauren Dare</dc:creator>
  <dc:description/>
  <dc:language>en-US</dc:language>
  <cp:lastModifiedBy>CutrellW</cp:lastModifiedBy>
  <dcterms:modified xsi:type="dcterms:W3CDTF">2003-05-01T12:17:22Z</dcterms:modified>
  <cp:revision>11</cp:revision>
  <dc:subject/>
  <dc:title>.</dc:title>
</cp:coreProperties>
</file>