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A2A-AB52-412F-94E0-B683EEF1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F8A-8213-4B67-A676-80A77DE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800-342E-4D63-945E-BD44C960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960-9001-48FD-A4EF-7545E160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988-8C9E-4E1C-9C22-F0D57534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EA3-FC4A-4343-9C5E-9C1E3A1D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53A-4E43-4223-A62B-4EB585CC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A73-8E75-490C-9ED5-B8982FEB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D69-8A88-404D-AD25-F4693E26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E1D-4F25-4398-9A06-09F64FD0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8EF-C1E6-4403-8947-97DA7E8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E32-F44A-468F-B5DE-8CAFE463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F322-F32C-47BC-9568-837371967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P Battens enroute Stin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0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ight a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3760" y="34290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yaws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mbing through 1000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 in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3244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1520" y="6171840"/>
            <a:ext cx="762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NGINE OVER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 -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  Throttle - re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Emer Gov 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  Gov Switch - E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  Throttle - adjust as necessary to control R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Land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nd even if manual throttle corrects the overspeed since there is a chance of an impending engine failure due to the debris generated by the initial N2 fail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ximum engine torque available for any ambient condition will be reduced by 6 to 8 PSI when the GOV AUTO/EMER switch is placed in the EMER 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UE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2 Govern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alfunctions, throttle reduction will result in a corresponding decrease in N2 RP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event of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uel contro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alfunction, throttle reduction will have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ffect on N2 RP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3T16:35:24Z</dcterms:created>
  <dc:creator>Lauren Dare</dc:creator>
  <dc:description/>
  <dc:language>en-US</dc:language>
  <cp:lastModifiedBy>CutrellW</cp:lastModifiedBy>
  <dcterms:modified xsi:type="dcterms:W3CDTF">2003-03-04T21:15:37Z</dcterms:modified>
  <cp:revision>6</cp:revision>
  <dc:subject/>
  <dc:title>.</dc:title>
</cp:coreProperties>
</file>