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B10-CCE6-4F7C-9494-2BC13FBD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B39-629D-47A5-B0EF-76F34C2F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017-EF0D-4678-88E1-6734239D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6AB-466C-499D-B064-95514F68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06A-AA02-4E06-ABBD-154BDF97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D33-869D-4581-858A-F39F7C17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A5A-EF18-45A2-BFD1-D1717BC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C5A-2AA7-46C1-A9DA-BCC590E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E49-70DB-4165-B1A5-814E149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867-8F7B-4CFD-BEBC-BF2F4EC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257-960C-4590-ADE3-452C2F6C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2C1-0DB4-4CB3-AD2E-1D081B1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atch-c" descr=""/>
          <p:cNvPicPr/>
          <p:nvPr/>
        </p:nvPicPr>
        <p:blipFill>
          <a:blip r:embed="rId2"/>
          <a:stretch/>
        </p:blipFill>
        <p:spPr>
          <a:xfrm>
            <a:off x="2343240" y="1224000"/>
            <a:ext cx="4456080" cy="441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C560-02F0-4D8F-A574-E61CD21AB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NM northwest of RT 563 in friendly terr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’ AGL  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ngine%20fuel%20lines" descr=""/>
          <p:cNvPicPr/>
          <p:nvPr/>
        </p:nvPicPr>
        <p:blipFill>
          <a:blip r:embed="rId1"/>
          <a:stretch/>
        </p:blipFill>
        <p:spPr>
          <a:xfrm>
            <a:off x="11160" y="-20952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ft y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MERGENCY GOV OPE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 Switch -- 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ttle -- Adjust as necessary to control R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ONSIDERATION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engine torque will be reduced by how much when Gov Switch is in E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8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left%20side%20engine%20no%20labels" descr=""/>
          <p:cNvPicPr/>
          <p:nvPr/>
        </p:nvPicPr>
        <p:blipFill>
          <a:blip r:embed="rId1"/>
          <a:stretch/>
        </p:blipFill>
        <p:spPr>
          <a:xfrm>
            <a:off x="-320760" y="-351000"/>
            <a:ext cx="9785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eft%20side%20engine" descr=""/>
          <p:cNvPicPr/>
          <p:nvPr/>
        </p:nvPicPr>
        <p:blipFill>
          <a:blip r:embed="rId1"/>
          <a:stretch/>
        </p:blipFill>
        <p:spPr>
          <a:xfrm>
            <a:off x="-320760" y="-351000"/>
            <a:ext cx="9785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verspeed%20gov" descr=""/>
          <p:cNvPicPr/>
          <p:nvPr/>
        </p:nvPicPr>
        <p:blipFill>
          <a:blip r:embed="rId1"/>
          <a:stretch/>
        </p:blipFill>
        <p:spPr>
          <a:xfrm>
            <a:off x="11160" y="-20952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ngine%20driven%20fuel%20pump" descr=""/>
          <p:cNvPicPr/>
          <p:nvPr/>
        </p:nvPicPr>
        <p:blipFill>
          <a:blip r:embed="rId1"/>
          <a:stretch/>
        </p:blipFill>
        <p:spPr>
          <a:xfrm>
            <a:off x="11160" y="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5T20:34:17Z</dcterms:created>
  <dc:creator>Eagles Nest</dc:creator>
  <dc:description/>
  <dc:language>en-US</dc:language>
  <cp:lastModifiedBy>23Student</cp:lastModifiedBy>
  <cp:lastPrinted>1999-03-11T17:07:27Z</cp:lastPrinted>
  <dcterms:modified xsi:type="dcterms:W3CDTF">2004-10-07T14:55:43Z</dcterms:modified>
  <cp:revision>185</cp:revision>
  <dc:subject/>
  <dc:title>Daily Flight Briefing</dc:title>
</cp:coreProperties>
</file>