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7E61-0B1B-497F-92EA-793763A7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6EE2-C356-4567-9BCD-549758ED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D980-9CE3-410B-B9D9-E08FF388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1F5-ED64-4EF6-B6B6-4C0B2074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6EF-9D64-4F2F-AEC9-FD351E4A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94CB-F026-4251-8259-64A8BBC2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65E-6A68-4732-A46E-376BC44D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F3A-4C41-4643-84D0-058CB290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70DE-B587-42F3-A7CD-355C59E2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935-5D15-4019-9179-147C429B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43E0-B094-4743-900B-E444A65B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C2A-3312-4C6E-B573-B15EEA4D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ACDE-F06E-4754-8715-2B63F3E87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486400" y="37335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0’ AGL 5 nm SE of LZ 563 (LIN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ols feel unusual and sti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edback to LF and RR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rmal feel to other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86400" y="37335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0’ AGL 5 nm SE of LZ 563 (LIN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ols feel unusual and sti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edback to LF and RR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86400" y="37335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0’ AGL 5 nm SE of LZ 563 (LIN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ols feel unusual and sti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edback to LF and RR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rmal feel to other quadr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86400" y="37335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0’ AGL 5 nm SE of LZ 563 (LIND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ols feel stiff (a normal HYD OFF fe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Stiff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HYD CONT switch – OFF then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HYD CONT switch – 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Land as soon as pract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WARNING with this E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hydraulic%20system%20color%20bmp" descr=""/>
          <p:cNvPicPr/>
          <p:nvPr/>
        </p:nvPicPr>
        <p:blipFill>
          <a:blip r:embed="rId1"/>
          <a:stretch/>
        </p:blipFill>
        <p:spPr>
          <a:xfrm>
            <a:off x="228600" y="0"/>
            <a:ext cx="8447040" cy="88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18:45:05Z</dcterms:created>
  <dc:creator>Lauren Dare</dc:creator>
  <dc:description/>
  <dc:language>en-US</dc:language>
  <cp:lastModifiedBy>Valued Gateway Client</cp:lastModifiedBy>
  <dcterms:modified xsi:type="dcterms:W3CDTF">1999-10-12T14:53:07Z</dcterms:modified>
  <cp:revision>7</cp:revision>
  <dc:subject/>
  <dc:title>EP OF THE DAY</dc:title>
</cp:coreProperties>
</file>