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FEA-2C7B-4F87-98C7-176051D3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312-90B2-4227-855A-53D73993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41F-481D-4E10-9741-E6366B92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13C-EE72-435D-BE9E-5A581909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0C8-A064-440F-8F61-B61883EB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B1F-882E-406F-9B1A-0A74EA6E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31A-CBF2-4C0C-B586-2703CADA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EDD-AC0C-43DC-BFFE-9ED94DD2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112-B29B-4A16-BD2F-95F756F8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0E3-DD40-4EDB-A488-3EB5DAC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CB7-60B3-4E95-B043-05E24CC5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23B-3477-4CA3-A2E1-2B208C6E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BC33-4323-4717-9FBD-AB341C37E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put data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normal feedback in cyclic and pedals are sti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normal feedback in cyclic and pedals are sti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8:45:05Z</dcterms:created>
  <dc:creator>Lauren Dare</dc:creator>
  <dc:description/>
  <dc:language>en-US</dc:language>
  <cp:lastModifiedBy>Valued Gateway Client</cp:lastModifiedBy>
  <dcterms:modified xsi:type="dcterms:W3CDTF">2000-04-18T15:02:50Z</dcterms:modified>
  <cp:revision>7</cp:revision>
  <dc:subject/>
  <dc:title>EP OF THE DAY</dc:title>
</cp:coreProperties>
</file>