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8C6-7ABC-4C27-857F-7724A4FB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90D-F247-468D-B213-5FD02B31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42F-2945-4046-871F-8541AF04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095-BA34-4273-9F7E-F4915CA7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7F1-DDC7-48F4-9707-94BD681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DF9-B123-4942-B1AC-CF341AF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001-2A0B-4E81-A1D3-9FDCDA1D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4E5-2A4E-43BD-9965-0C711C79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B5F-4016-4A2C-89D2-88DD25E7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A50-7883-4B7C-9685-38F50B4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772-064D-4526-9019-7B2CB94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E06-45B6-4894-8242-51B28F51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6302-9BFB-42E6-9EFB-675A8634D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66680"/>
          <a:ext cx="8915400" cy="668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668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114480"/>
          <a:ext cx="8763120" cy="657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763120" cy="65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23:03:01Z</dcterms:created>
  <dc:creator>CutrellW</dc:creator>
  <dc:description/>
  <dc:language>en-US</dc:language>
  <cp:lastModifiedBy>CutrellW</cp:lastModifiedBy>
  <dcterms:modified xsi:type="dcterms:W3CDTF">2003-02-28T16:06:59Z</dcterms:modified>
  <cp:revision>3</cp:revision>
  <dc:subject/>
  <dc:title>PowerPoint Presentation</dc:title>
</cp:coreProperties>
</file>