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D19-7195-4E9B-AE7B-3F7B5C46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CC4-863C-41A7-8B76-334CB0A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70B-CF03-482A-9873-D30DA2AB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E77-9D3F-423B-95D1-1C74414F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C71-587A-45EF-BC47-EC89BA9F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B86-332C-4A67-9AE5-C13B271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F73-8568-4566-AAC0-841F9697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EA7-EC89-4F3A-A502-85302A9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CCB-DF52-4162-9D8A-B1293889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9E4-0D2D-4B78-993B-EF54A3F3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642-0406-4C1B-AC1D-84D16BD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099-4AC8-4AD0-AE3C-3203DF3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3541-D95B-4974-B2C8-5F6AEEF22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10080" y="3733560"/>
            <a:ext cx="3733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inson stage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0’ A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ering AUTO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 rot="10800000">
            <a:off x="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86040" y="4191120"/>
            <a:ext cx="3429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entered the auto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 K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0 VVI des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ing 400’ A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rottle is at Engine Id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llective is full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1520" y="6171840"/>
            <a:ext cx="762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tch Failure to Diseng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CutrellW</cp:lastModifiedBy>
  <dcterms:modified xsi:type="dcterms:W3CDTF">2003-05-01T12:30:01Z</dcterms:modified>
  <cp:revision>8</cp:revision>
  <dc:subject/>
  <dc:title>EP OF THE DAY</dc:title>
</cp:coreProperties>
</file>