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B396-E06F-423A-9A6D-EC32D2579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9255-D7E4-4C47-9F90-77B941FC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FD21-F08A-4138-BF90-78C88DFA9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382F-2EE8-4AB6-8E76-F6919492F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544D-F54B-481F-AD14-E8E368F2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4A55-457C-4638-A18D-B48564F0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7DAB-5B49-441A-8B77-701C02D0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950C-4AA9-4040-B6C9-AD545310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A6DB-BBC0-479E-AD6A-D57F0EA5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4B5A-8A73-40E3-9C25-A185C619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6060-6DA9-4058-9730-9B3E37A1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11FD-D10C-4E21-AB0C-AAAAC9CC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7034-9263-4356-8859-DAA4703AC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ettling with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light condition when collective inputs are ineffective in arresting a rate of descent due to an unsteady airflow about the roto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icopter settles in its own downwa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tributory Cond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ical or near vertical desc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tor system using all or some    of the avail engine po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s of ET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rrective 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sink rate early on,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ing airspeed and lowering collective pi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rrective 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4800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sink rate early on,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ing airspeed and lowering collective pi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rrective 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609120"/>
            <a:ext cx="5257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tain a stable controlled approach,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have a good escape o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rrective 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742840"/>
            <a:ext cx="73915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tain a stable controlled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around early in the approach,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have a good escape o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9T15:24:07Z</dcterms:created>
  <dc:creator>Valued Gateway Client</dc:creator>
  <dc:description/>
  <dc:language>en-US</dc:language>
  <cp:lastModifiedBy>CutrellW</cp:lastModifiedBy>
  <dcterms:modified xsi:type="dcterms:W3CDTF">2003-02-27T22:58:23Z</dcterms:modified>
  <cp:revision>2</cp:revision>
  <dc:subject/>
  <dc:title>Settling with power</dc:title>
</cp:coreProperties>
</file>