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BEE-10DC-4E13-A141-7866CDF4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4BE-3014-41A1-854E-FA8835DA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D91-2802-4165-A00C-2E9315E4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6F5-2EAD-4F40-B192-6C04812F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6C8-269A-4083-909B-AF595F3E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E8F-41B1-432F-9E77-7C250C28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C6E-A870-4AFF-98A4-2220B57E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59C-D2D4-4335-9FE4-18C9616E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774-A677-4CB8-86E1-A43C8496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9ED-DD87-4647-9D7F-1494CA6F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6708-A0E6-49E2-BA52-F3C4D3D6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1AD-4E74-4D2B-A7C0-0FB51F33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9925-A9E4-43C6-9C76-D5DDF390C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562720" y="3504960"/>
            <a:ext cx="3581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ing 100’ AGL in the AUTO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ginning the flare and slowing the aircr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owly applying the throttle to the full open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 rot="10800000">
            <a:off x="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4582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10800000">
            <a:off x="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4582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6324480"/>
            <a:ext cx="609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1520" y="6171840"/>
            <a:ext cx="762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tch Failure to Re-eng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toro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MER Shut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8:45:05Z</dcterms:created>
  <dc:creator>Lauren Dare</dc:creator>
  <dc:description/>
  <dc:language>en-US</dc:language>
  <cp:lastModifiedBy>CutrellW</cp:lastModifiedBy>
  <dcterms:modified xsi:type="dcterms:W3CDTF">2003-03-04T21:22:38Z</dcterms:modified>
  <cp:revision>8</cp:revision>
  <dc:subject/>
  <dc:title>EP OF THE DAY</dc:title>
</cp:coreProperties>
</file>