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DE3-14A2-43E8-BB63-34DDDD69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CE9-781D-45E5-A9A2-A736B204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A40-5E13-48B2-B9A3-A6C0849A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C0A-E1CD-4CF2-93A1-AB2CB5CD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9C7-B619-4DF9-AA2A-B1EAD6DD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BC6-F9EC-431F-B904-F713019D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092-FD7A-4BA8-9673-5B64EB5E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336-0B5B-432A-B39D-E6C012B8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4F1-789E-4479-ACCC-4BC2A029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8B2-7E23-4F8D-B1DE-0F632C91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A2F-6DB0-43A7-B703-AB6B32BF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B2E-F727-4650-AA61-87DFEE97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D0BE-B3CF-42B0-9CA1-C075B9E6F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38320" y="3733560"/>
            <a:ext cx="3505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NM west of RT 563-Li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 M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0 K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aight an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867280"/>
            <a:ext cx="762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43600" y="4038120"/>
            <a:ext cx="2743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867280"/>
            <a:ext cx="914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0" y="4571640"/>
            <a:ext cx="2286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5790960"/>
            <a:ext cx="1066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562360" y="3505320"/>
            <a:ext cx="3352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2 Spur Gear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llective -- 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ottle -- Redu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til normal operating RPM is at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nd as soon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2 Gearb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8:45:05Z</dcterms:created>
  <dc:creator>Lauren Dare</dc:creator>
  <dc:description/>
  <dc:language>en-US</dc:language>
  <cp:lastModifiedBy>Lauren Dare</cp:lastModifiedBy>
  <dcterms:modified xsi:type="dcterms:W3CDTF">1999-07-21T16:48:43Z</dcterms:modified>
  <cp:revision>7</cp:revision>
  <dc:subject/>
  <dc:title>EP OF THE DAY</dc:title>
</cp:coreProperties>
</file>