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5AC-1975-461D-989C-86C2F701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1A7-A183-4FD3-9648-4ACBE2C5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570-7A78-489F-A59C-A90A3B3B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727-8171-41B9-894D-C403BA5D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1BA-5813-496D-B0F6-F5B211E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5A9-0738-4480-9180-6FF69A2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969E-04FE-4EF0-B032-2C477666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162-00EA-47A2-B7AA-4E3ACA82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568-311F-42A4-A33B-6FF0F752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7CD-C5BD-4F2C-B378-277B7EC4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34F-5517-48C3-A574-82359A37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88B-D2D4-4BFD-BBE1-72D6636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D8F0-FCAF-4374-8FC7-FA6BE4C7A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miles west of Troy M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’ A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62720" y="3657600"/>
            <a:ext cx="3581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ft y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gine noise decre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91320" y="3580920"/>
            <a:ext cx="3047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91320" y="3580920"/>
            <a:ext cx="3047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6:35:24Z</dcterms:created>
  <dc:creator>Lauren Dare</dc:creator>
  <dc:description/>
  <dc:language>en-US</dc:language>
  <cp:lastModifiedBy>CutrellW</cp:lastModifiedBy>
  <dcterms:modified xsi:type="dcterms:W3CDTF">2003-04-29T15:07:24Z</dcterms:modified>
  <cp:revision>4</cp:revision>
  <dc:subject/>
  <dc:title>.</dc:title>
</cp:coreProperties>
</file>