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A5D-654A-40A9-8707-D3855C02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84C4-4F2D-4169-9908-5A166A9B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810-3471-421D-927D-34CA8BC9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5C8-55B8-4C72-8D89-AF4A82A5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B4F-49B7-4332-9769-F0829409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7F5-9AF9-497E-B64E-BE4097FC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DA0-4FF0-451E-B4BD-57FE47AB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986-4841-4C25-B703-64A3A54A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2F7-22E3-4418-9E46-EB8F8ABD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22E-4978-4FB6-99F2-4803B13A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1CC-FBC4-46B1-AFC0-E2B707FD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05F-35EC-4954-B4ED-E1FD9716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0D69-51E9-4F69-B074-ABEF70B61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304920"/>
          <a:ext cx="765468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765468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2:29:28Z</dcterms:created>
  <dc:creator>CutrellW</dc:creator>
  <dc:description/>
  <dc:language>en-US</dc:language>
  <cp:lastModifiedBy>CutrellW</cp:lastModifiedBy>
  <dcterms:modified xsi:type="dcterms:W3CDTF">2003-01-30T22:30:06Z</dcterms:modified>
  <cp:revision>1</cp:revision>
  <dc:subject/>
  <dc:title>PowerPoint Presentation</dc:title>
</cp:coreProperties>
</file>