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5E9-3807-41B2-8C47-2134C2B3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332-447B-4E74-82CE-39AFE5F9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ED7-5E46-416E-AF77-7A052E3B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082-3FA5-45EF-ADE2-6E68C9B8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CE3-92A4-4200-899B-E77BC273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345-1539-4684-8D8B-62AE4792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19EC-A049-4EB7-BCC3-0F2C067D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FBB-F151-46B0-BCD4-C4159070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16E-A251-441E-A3D0-61629EF6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F3A-993A-4FA5-86B4-F019480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CAD-E977-4CEC-847D-06E6A9D0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CBF-B92A-4790-ABCC-DCD9DA5C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2B9D-A8C0-47C5-9AF6-5BECB2AE8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09720" y="37335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ute to Kirtland for an air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0 MSL over the Sa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 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09720" y="37335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ute to Kirtland for an air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0 MSL over the Sa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 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09720" y="37335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ute to Kirtland for an air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0 MSL over the Sa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 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09720" y="37335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ute to Kirtland for an air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0 MSL over the Sa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 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09720" y="37335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route to Kirtland for an airs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0 MSL over the Sa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 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5000" y="44197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5000" y="44197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uel%20system" descr=""/>
          <p:cNvPicPr/>
          <p:nvPr/>
        </p:nvPicPr>
        <p:blipFill>
          <a:blip r:embed="rId1"/>
          <a:stretch/>
        </p:blipFill>
        <p:spPr>
          <a:xfrm>
            <a:off x="620640" y="-838080"/>
            <a:ext cx="9285480" cy="92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CutrellW</cp:lastModifiedBy>
  <dcterms:modified xsi:type="dcterms:W3CDTF">2003-03-04T21:29:49Z</dcterms:modified>
  <cp:revision>5</cp:revision>
  <dc:subject/>
  <dc:title>EP OF THE DAY</dc:title>
</cp:coreProperties>
</file>